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6.wmf" ContentType="image/x-wmf"/>
  <Override PartName="/ppt/media/image11.wmf" ContentType="image/x-wmf"/>
  <Override PartName="/ppt/media/image3.wmf" ContentType="image/x-wmf"/>
  <Override PartName="/ppt/media/image26.wmf" ContentType="image/x-wmf"/>
  <Override PartName="/ppt/media/image4.png" ContentType="image/png"/>
  <Override PartName="/ppt/media/image12.wmf" ContentType="image/x-wmf"/>
  <Override PartName="/ppt/media/image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media/image27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DD771-16A1-48D9-91CC-90BB46EE2C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33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377244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40556-0016-4081-B3AE-E223D4CB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33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7600" y="15933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37724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7600" y="37724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12CB2-A10E-4416-B580-0E4590AE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33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2360" y="15933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87880" y="15933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377244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2360" y="377244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87880" y="377244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487F0-8552-43CA-9E33-F8A8224017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7B5FA-B07C-4076-B238-E7E3B532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6840" y="159336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8144B-4E60-496D-8E01-FCAE06EF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336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81F25-C25C-49AC-8F0E-8C11A57A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336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59336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CDF63-7400-430F-8536-D31D09C4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51AE9-FD2B-450F-B8EC-57E9A9CD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1920" y="164880"/>
            <a:ext cx="8915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68F9D-1B09-4A5E-8507-700E19B4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33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600" y="159336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7724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B8162-6EBE-4D5F-B34A-00E33D53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59336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A2C51-4BCA-4ED4-AE01-39F9EB62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336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5933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47600" y="37724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E11AD-AA4D-4097-A52A-2EE63AEA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33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7600" y="15933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377244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BF96F-6FF7-4B96-81D8-3D2E27F0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33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6840" y="377244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217BB-824D-4BE8-900C-B9BBC156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33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600" y="15933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6840" y="37724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47600" y="37724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1CD66-874B-4A88-A87A-B2968007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33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22360" y="15933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87880" y="15933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6840" y="377244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22360" y="377244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87880" y="377244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21FCF-B497-4863-AED6-23860D0B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336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E687A-FC8B-4B05-AFF7-66B0AE52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336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59336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46CC0-1C8A-4B20-AC2D-67803EB4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C2FCA-59B5-47DA-9BFE-135C524A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1920" y="164880"/>
            <a:ext cx="8915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BD750-B2D7-43B0-8D8F-2B76010D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33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59336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7724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0323B-A535-4245-88F2-F5208E65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336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7600" y="15933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7600" y="37724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7D5DB-D97B-446F-83DD-7274AA9D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33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5933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7244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23738-0ECB-4D9A-BB95-4F64E4E1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336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533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9672-46E2-434E-9AB0-DFC178FB7A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int" descr=""/>
          <p:cNvPicPr/>
          <p:nvPr/>
        </p:nvPicPr>
        <p:blipFill>
          <a:blip r:embed="rId2"/>
          <a:stretch/>
        </p:blipFill>
        <p:spPr>
          <a:xfrm>
            <a:off x="304920" y="1022400"/>
            <a:ext cx="8839080" cy="41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57240" y="5867280"/>
          <a:ext cx="1695240" cy="8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0" y="5867280"/>
                    <a:ext cx="16952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7543800" y="5867280"/>
            <a:ext cx="1544760" cy="9255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2784960" y="6080040"/>
            <a:ext cx="3536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rientad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f. Heitor M. Quintella, (p)DS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017960" y="6141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60920" y="6141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5386320" y="6141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E4AB-EC84-4F49-B3BF-CB726DB387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aint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8839080" cy="4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57240" y="5867280"/>
          <a:ext cx="1695240" cy="8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0" y="5867280"/>
                    <a:ext cx="16952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7543800" y="5867280"/>
            <a:ext cx="1544760" cy="925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784960" y="6080040"/>
            <a:ext cx="3536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rientad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f. Heitor M. Quintella, (p)DS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24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Black"/>
              </a:rPr>
              <a:t>MSG-GQ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Jeffrey H. Costa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Black"/>
              </a:rPr>
              <a:t>Avaliando Treinamentos em Vendas: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Um estudo da qualidade dos serviços prestados por organizações de call center, percebida por clientes da indústria de telecomunicaçõ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Black"/>
              </a:rPr>
              <a:t>9 de Setembro de 200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320" y="52560"/>
          <a:ext cx="11523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2560"/>
                    <a:ext cx="11523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1548E-A945-4AB9-82A4-5F8B225C84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cial Teór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odelo práticas de liderança de Kouzes &amp; Posner (199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3827520" y="2298600"/>
            <a:ext cx="739800" cy="768600"/>
          </a:xfrm>
          <a:custGeom>
            <a:avLst/>
            <a:gdLst/>
            <a:ahLst/>
            <a:rect l="l" t="t" r="r" b="b"/>
            <a:pathLst>
              <a:path w="466" h="484">
                <a:moveTo>
                  <a:pt x="109" y="441"/>
                </a:moveTo>
                <a:lnTo>
                  <a:pt x="109" y="413"/>
                </a:lnTo>
                <a:lnTo>
                  <a:pt x="101" y="375"/>
                </a:lnTo>
                <a:lnTo>
                  <a:pt x="87" y="347"/>
                </a:lnTo>
                <a:lnTo>
                  <a:pt x="60" y="323"/>
                </a:lnTo>
                <a:lnTo>
                  <a:pt x="41" y="298"/>
                </a:lnTo>
                <a:lnTo>
                  <a:pt x="19" y="271"/>
                </a:lnTo>
                <a:lnTo>
                  <a:pt x="8" y="246"/>
                </a:lnTo>
                <a:lnTo>
                  <a:pt x="0" y="213"/>
                </a:lnTo>
                <a:lnTo>
                  <a:pt x="0" y="186"/>
                </a:lnTo>
                <a:lnTo>
                  <a:pt x="8" y="167"/>
                </a:lnTo>
                <a:lnTo>
                  <a:pt x="13" y="142"/>
                </a:lnTo>
                <a:lnTo>
                  <a:pt x="19" y="128"/>
                </a:lnTo>
                <a:lnTo>
                  <a:pt x="32" y="104"/>
                </a:lnTo>
                <a:lnTo>
                  <a:pt x="49" y="85"/>
                </a:lnTo>
                <a:lnTo>
                  <a:pt x="60" y="68"/>
                </a:lnTo>
                <a:lnTo>
                  <a:pt x="82" y="57"/>
                </a:lnTo>
                <a:lnTo>
                  <a:pt x="101" y="38"/>
                </a:lnTo>
                <a:lnTo>
                  <a:pt x="120" y="30"/>
                </a:lnTo>
                <a:lnTo>
                  <a:pt x="142" y="19"/>
                </a:lnTo>
                <a:lnTo>
                  <a:pt x="175" y="5"/>
                </a:lnTo>
                <a:lnTo>
                  <a:pt x="203" y="5"/>
                </a:lnTo>
                <a:lnTo>
                  <a:pt x="230" y="0"/>
                </a:lnTo>
                <a:lnTo>
                  <a:pt x="258" y="0"/>
                </a:lnTo>
                <a:lnTo>
                  <a:pt x="285" y="5"/>
                </a:lnTo>
                <a:lnTo>
                  <a:pt x="312" y="11"/>
                </a:lnTo>
                <a:lnTo>
                  <a:pt x="332" y="19"/>
                </a:lnTo>
                <a:lnTo>
                  <a:pt x="356" y="24"/>
                </a:lnTo>
                <a:lnTo>
                  <a:pt x="378" y="38"/>
                </a:lnTo>
                <a:lnTo>
                  <a:pt x="400" y="49"/>
                </a:lnTo>
                <a:lnTo>
                  <a:pt x="406" y="57"/>
                </a:lnTo>
                <a:lnTo>
                  <a:pt x="406" y="63"/>
                </a:lnTo>
                <a:lnTo>
                  <a:pt x="406" y="76"/>
                </a:lnTo>
                <a:lnTo>
                  <a:pt x="425" y="109"/>
                </a:lnTo>
                <a:lnTo>
                  <a:pt x="433" y="128"/>
                </a:lnTo>
                <a:lnTo>
                  <a:pt x="439" y="153"/>
                </a:lnTo>
                <a:lnTo>
                  <a:pt x="444" y="172"/>
                </a:lnTo>
                <a:lnTo>
                  <a:pt x="444" y="200"/>
                </a:lnTo>
                <a:lnTo>
                  <a:pt x="444" y="246"/>
                </a:lnTo>
                <a:lnTo>
                  <a:pt x="444" y="279"/>
                </a:lnTo>
                <a:lnTo>
                  <a:pt x="444" y="285"/>
                </a:lnTo>
                <a:lnTo>
                  <a:pt x="444" y="298"/>
                </a:lnTo>
                <a:lnTo>
                  <a:pt x="452" y="304"/>
                </a:lnTo>
                <a:lnTo>
                  <a:pt x="461" y="309"/>
                </a:lnTo>
                <a:lnTo>
                  <a:pt x="461" y="323"/>
                </a:lnTo>
                <a:lnTo>
                  <a:pt x="466" y="323"/>
                </a:lnTo>
                <a:lnTo>
                  <a:pt x="466" y="328"/>
                </a:lnTo>
                <a:lnTo>
                  <a:pt x="466" y="337"/>
                </a:lnTo>
                <a:lnTo>
                  <a:pt x="461" y="342"/>
                </a:lnTo>
                <a:lnTo>
                  <a:pt x="452" y="347"/>
                </a:lnTo>
                <a:lnTo>
                  <a:pt x="444" y="347"/>
                </a:lnTo>
                <a:lnTo>
                  <a:pt x="439" y="375"/>
                </a:lnTo>
                <a:lnTo>
                  <a:pt x="433" y="380"/>
                </a:lnTo>
                <a:lnTo>
                  <a:pt x="425" y="386"/>
                </a:lnTo>
                <a:lnTo>
                  <a:pt x="433" y="408"/>
                </a:lnTo>
                <a:lnTo>
                  <a:pt x="419" y="413"/>
                </a:lnTo>
                <a:lnTo>
                  <a:pt x="419" y="427"/>
                </a:lnTo>
                <a:lnTo>
                  <a:pt x="411" y="446"/>
                </a:lnTo>
                <a:lnTo>
                  <a:pt x="406" y="460"/>
                </a:lnTo>
                <a:lnTo>
                  <a:pt x="392" y="465"/>
                </a:lnTo>
                <a:lnTo>
                  <a:pt x="296" y="484"/>
                </a:lnTo>
                <a:lnTo>
                  <a:pt x="109" y="441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00600" y="2998800"/>
            <a:ext cx="988920" cy="3106800"/>
          </a:xfrm>
          <a:custGeom>
            <a:avLst/>
            <a:gdLst/>
            <a:ahLst/>
            <a:rect l="l" t="t" r="r" b="b"/>
            <a:pathLst>
              <a:path w="623" h="1957">
                <a:moveTo>
                  <a:pt x="305" y="76"/>
                </a:moveTo>
                <a:lnTo>
                  <a:pt x="535" y="290"/>
                </a:lnTo>
                <a:lnTo>
                  <a:pt x="577" y="355"/>
                </a:lnTo>
                <a:lnTo>
                  <a:pt x="582" y="375"/>
                </a:lnTo>
                <a:lnTo>
                  <a:pt x="582" y="394"/>
                </a:lnTo>
                <a:lnTo>
                  <a:pt x="577" y="418"/>
                </a:lnTo>
                <a:lnTo>
                  <a:pt x="563" y="446"/>
                </a:lnTo>
                <a:lnTo>
                  <a:pt x="563" y="484"/>
                </a:lnTo>
                <a:lnTo>
                  <a:pt x="563" y="517"/>
                </a:lnTo>
                <a:lnTo>
                  <a:pt x="577" y="550"/>
                </a:lnTo>
                <a:lnTo>
                  <a:pt x="590" y="574"/>
                </a:lnTo>
                <a:lnTo>
                  <a:pt x="596" y="602"/>
                </a:lnTo>
                <a:lnTo>
                  <a:pt x="596" y="616"/>
                </a:lnTo>
                <a:lnTo>
                  <a:pt x="590" y="629"/>
                </a:lnTo>
                <a:lnTo>
                  <a:pt x="582" y="640"/>
                </a:lnTo>
                <a:lnTo>
                  <a:pt x="577" y="654"/>
                </a:lnTo>
                <a:lnTo>
                  <a:pt x="535" y="692"/>
                </a:lnTo>
                <a:lnTo>
                  <a:pt x="522" y="706"/>
                </a:lnTo>
                <a:lnTo>
                  <a:pt x="516" y="725"/>
                </a:lnTo>
                <a:lnTo>
                  <a:pt x="516" y="744"/>
                </a:lnTo>
                <a:lnTo>
                  <a:pt x="527" y="824"/>
                </a:lnTo>
                <a:lnTo>
                  <a:pt x="527" y="908"/>
                </a:lnTo>
                <a:lnTo>
                  <a:pt x="522" y="991"/>
                </a:lnTo>
                <a:lnTo>
                  <a:pt x="508" y="1070"/>
                </a:lnTo>
                <a:lnTo>
                  <a:pt x="494" y="1133"/>
                </a:lnTo>
                <a:lnTo>
                  <a:pt x="480" y="1171"/>
                </a:lnTo>
                <a:lnTo>
                  <a:pt x="453" y="1322"/>
                </a:lnTo>
                <a:lnTo>
                  <a:pt x="426" y="1470"/>
                </a:lnTo>
                <a:lnTo>
                  <a:pt x="406" y="1626"/>
                </a:lnTo>
                <a:lnTo>
                  <a:pt x="398" y="1776"/>
                </a:lnTo>
                <a:lnTo>
                  <a:pt x="415" y="1804"/>
                </a:lnTo>
                <a:lnTo>
                  <a:pt x="426" y="1815"/>
                </a:lnTo>
                <a:lnTo>
                  <a:pt x="475" y="1853"/>
                </a:lnTo>
                <a:lnTo>
                  <a:pt x="522" y="1880"/>
                </a:lnTo>
                <a:lnTo>
                  <a:pt x="577" y="1900"/>
                </a:lnTo>
                <a:lnTo>
                  <a:pt x="623" y="1913"/>
                </a:lnTo>
                <a:lnTo>
                  <a:pt x="623" y="1938"/>
                </a:lnTo>
                <a:lnTo>
                  <a:pt x="615" y="1957"/>
                </a:lnTo>
                <a:lnTo>
                  <a:pt x="124" y="1957"/>
                </a:lnTo>
                <a:lnTo>
                  <a:pt x="129" y="1905"/>
                </a:lnTo>
                <a:lnTo>
                  <a:pt x="143" y="1847"/>
                </a:lnTo>
                <a:lnTo>
                  <a:pt x="124" y="1847"/>
                </a:lnTo>
                <a:lnTo>
                  <a:pt x="129" y="1607"/>
                </a:lnTo>
                <a:lnTo>
                  <a:pt x="124" y="1368"/>
                </a:lnTo>
                <a:lnTo>
                  <a:pt x="74" y="887"/>
                </a:lnTo>
                <a:lnTo>
                  <a:pt x="88" y="829"/>
                </a:lnTo>
                <a:lnTo>
                  <a:pt x="102" y="772"/>
                </a:lnTo>
                <a:lnTo>
                  <a:pt x="124" y="717"/>
                </a:lnTo>
                <a:lnTo>
                  <a:pt x="148" y="679"/>
                </a:lnTo>
                <a:lnTo>
                  <a:pt x="124" y="668"/>
                </a:lnTo>
                <a:lnTo>
                  <a:pt x="96" y="654"/>
                </a:lnTo>
                <a:lnTo>
                  <a:pt x="74" y="629"/>
                </a:lnTo>
                <a:lnTo>
                  <a:pt x="170" y="629"/>
                </a:lnTo>
                <a:lnTo>
                  <a:pt x="272" y="583"/>
                </a:lnTo>
                <a:lnTo>
                  <a:pt x="272" y="564"/>
                </a:lnTo>
                <a:lnTo>
                  <a:pt x="198" y="574"/>
                </a:lnTo>
                <a:lnTo>
                  <a:pt x="327" y="512"/>
                </a:lnTo>
                <a:lnTo>
                  <a:pt x="286" y="438"/>
                </a:lnTo>
                <a:lnTo>
                  <a:pt x="88" y="473"/>
                </a:lnTo>
                <a:lnTo>
                  <a:pt x="157" y="438"/>
                </a:lnTo>
                <a:lnTo>
                  <a:pt x="137" y="418"/>
                </a:lnTo>
                <a:lnTo>
                  <a:pt x="55" y="432"/>
                </a:lnTo>
                <a:lnTo>
                  <a:pt x="14" y="460"/>
                </a:lnTo>
                <a:lnTo>
                  <a:pt x="8" y="394"/>
                </a:lnTo>
                <a:lnTo>
                  <a:pt x="0" y="331"/>
                </a:lnTo>
                <a:lnTo>
                  <a:pt x="0" y="257"/>
                </a:lnTo>
                <a:lnTo>
                  <a:pt x="0" y="186"/>
                </a:lnTo>
                <a:lnTo>
                  <a:pt x="8" y="123"/>
                </a:lnTo>
                <a:lnTo>
                  <a:pt x="22" y="38"/>
                </a:lnTo>
                <a:lnTo>
                  <a:pt x="22" y="24"/>
                </a:lnTo>
                <a:lnTo>
                  <a:pt x="36" y="11"/>
                </a:lnTo>
                <a:lnTo>
                  <a:pt x="41" y="5"/>
                </a:lnTo>
                <a:lnTo>
                  <a:pt x="63" y="0"/>
                </a:lnTo>
                <a:lnTo>
                  <a:pt x="250" y="43"/>
                </a:lnTo>
                <a:lnTo>
                  <a:pt x="305" y="7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74880" y="2376360"/>
            <a:ext cx="2544840" cy="2256120"/>
          </a:xfrm>
          <a:custGeom>
            <a:avLst/>
            <a:gdLst/>
            <a:ahLst/>
            <a:rect l="l" t="t" r="r" b="b"/>
            <a:pathLst>
              <a:path w="1603" h="1421">
                <a:moveTo>
                  <a:pt x="1123" y="819"/>
                </a:moveTo>
                <a:lnTo>
                  <a:pt x="1114" y="810"/>
                </a:lnTo>
                <a:lnTo>
                  <a:pt x="1095" y="810"/>
                </a:lnTo>
                <a:lnTo>
                  <a:pt x="1087" y="819"/>
                </a:lnTo>
                <a:lnTo>
                  <a:pt x="1068" y="832"/>
                </a:lnTo>
                <a:lnTo>
                  <a:pt x="1046" y="852"/>
                </a:lnTo>
                <a:lnTo>
                  <a:pt x="1035" y="871"/>
                </a:lnTo>
                <a:lnTo>
                  <a:pt x="1021" y="890"/>
                </a:lnTo>
                <a:lnTo>
                  <a:pt x="1013" y="914"/>
                </a:lnTo>
                <a:lnTo>
                  <a:pt x="1013" y="942"/>
                </a:lnTo>
                <a:lnTo>
                  <a:pt x="1040" y="928"/>
                </a:lnTo>
                <a:lnTo>
                  <a:pt x="1073" y="928"/>
                </a:lnTo>
                <a:lnTo>
                  <a:pt x="1095" y="914"/>
                </a:lnTo>
                <a:lnTo>
                  <a:pt x="1114" y="895"/>
                </a:lnTo>
                <a:lnTo>
                  <a:pt x="1136" y="890"/>
                </a:lnTo>
                <a:lnTo>
                  <a:pt x="1161" y="876"/>
                </a:lnTo>
                <a:lnTo>
                  <a:pt x="1188" y="871"/>
                </a:lnTo>
                <a:lnTo>
                  <a:pt x="1202" y="890"/>
                </a:lnTo>
                <a:lnTo>
                  <a:pt x="1290" y="852"/>
                </a:lnTo>
                <a:lnTo>
                  <a:pt x="1331" y="824"/>
                </a:lnTo>
                <a:lnTo>
                  <a:pt x="1413" y="810"/>
                </a:lnTo>
                <a:lnTo>
                  <a:pt x="1433" y="832"/>
                </a:lnTo>
                <a:lnTo>
                  <a:pt x="1367" y="865"/>
                </a:lnTo>
                <a:lnTo>
                  <a:pt x="1562" y="832"/>
                </a:lnTo>
                <a:lnTo>
                  <a:pt x="1603" y="904"/>
                </a:lnTo>
                <a:lnTo>
                  <a:pt x="1474" y="966"/>
                </a:lnTo>
                <a:lnTo>
                  <a:pt x="1548" y="956"/>
                </a:lnTo>
                <a:lnTo>
                  <a:pt x="1548" y="975"/>
                </a:lnTo>
                <a:lnTo>
                  <a:pt x="1446" y="1021"/>
                </a:lnTo>
                <a:lnTo>
                  <a:pt x="1350" y="1021"/>
                </a:lnTo>
                <a:lnTo>
                  <a:pt x="1249" y="1021"/>
                </a:lnTo>
                <a:lnTo>
                  <a:pt x="1257" y="1046"/>
                </a:lnTo>
                <a:lnTo>
                  <a:pt x="1216" y="1071"/>
                </a:lnTo>
                <a:lnTo>
                  <a:pt x="1169" y="1103"/>
                </a:lnTo>
                <a:lnTo>
                  <a:pt x="1109" y="1144"/>
                </a:lnTo>
                <a:lnTo>
                  <a:pt x="1054" y="1164"/>
                </a:lnTo>
                <a:lnTo>
                  <a:pt x="985" y="1188"/>
                </a:lnTo>
                <a:lnTo>
                  <a:pt x="897" y="1235"/>
                </a:lnTo>
                <a:lnTo>
                  <a:pt x="33" y="1421"/>
                </a:lnTo>
                <a:lnTo>
                  <a:pt x="6" y="1377"/>
                </a:lnTo>
                <a:lnTo>
                  <a:pt x="0" y="1344"/>
                </a:lnTo>
                <a:lnTo>
                  <a:pt x="0" y="1300"/>
                </a:lnTo>
                <a:lnTo>
                  <a:pt x="6" y="1284"/>
                </a:lnTo>
                <a:lnTo>
                  <a:pt x="14" y="1273"/>
                </a:lnTo>
                <a:lnTo>
                  <a:pt x="14" y="1259"/>
                </a:lnTo>
                <a:lnTo>
                  <a:pt x="14" y="1240"/>
                </a:lnTo>
                <a:lnTo>
                  <a:pt x="14" y="1202"/>
                </a:lnTo>
                <a:lnTo>
                  <a:pt x="27" y="1155"/>
                </a:lnTo>
                <a:lnTo>
                  <a:pt x="52" y="1117"/>
                </a:lnTo>
                <a:lnTo>
                  <a:pt x="69" y="1098"/>
                </a:lnTo>
                <a:lnTo>
                  <a:pt x="121" y="1021"/>
                </a:lnTo>
                <a:lnTo>
                  <a:pt x="162" y="956"/>
                </a:lnTo>
                <a:lnTo>
                  <a:pt x="222" y="791"/>
                </a:lnTo>
                <a:lnTo>
                  <a:pt x="258" y="709"/>
                </a:lnTo>
                <a:lnTo>
                  <a:pt x="285" y="630"/>
                </a:lnTo>
                <a:lnTo>
                  <a:pt x="324" y="548"/>
                </a:lnTo>
                <a:lnTo>
                  <a:pt x="365" y="487"/>
                </a:lnTo>
                <a:lnTo>
                  <a:pt x="379" y="468"/>
                </a:lnTo>
                <a:lnTo>
                  <a:pt x="406" y="455"/>
                </a:lnTo>
                <a:lnTo>
                  <a:pt x="445" y="449"/>
                </a:lnTo>
                <a:lnTo>
                  <a:pt x="587" y="444"/>
                </a:lnTo>
                <a:lnTo>
                  <a:pt x="629" y="444"/>
                </a:lnTo>
                <a:lnTo>
                  <a:pt x="648" y="449"/>
                </a:lnTo>
                <a:lnTo>
                  <a:pt x="675" y="463"/>
                </a:lnTo>
                <a:lnTo>
                  <a:pt x="675" y="430"/>
                </a:lnTo>
                <a:lnTo>
                  <a:pt x="675" y="403"/>
                </a:lnTo>
                <a:lnTo>
                  <a:pt x="670" y="378"/>
                </a:lnTo>
                <a:lnTo>
                  <a:pt x="656" y="353"/>
                </a:lnTo>
                <a:lnTo>
                  <a:pt x="642" y="331"/>
                </a:lnTo>
                <a:lnTo>
                  <a:pt x="629" y="307"/>
                </a:lnTo>
                <a:lnTo>
                  <a:pt x="623" y="279"/>
                </a:lnTo>
                <a:lnTo>
                  <a:pt x="615" y="249"/>
                </a:lnTo>
                <a:lnTo>
                  <a:pt x="615" y="222"/>
                </a:lnTo>
                <a:lnTo>
                  <a:pt x="615" y="189"/>
                </a:lnTo>
                <a:lnTo>
                  <a:pt x="629" y="164"/>
                </a:lnTo>
                <a:lnTo>
                  <a:pt x="656" y="112"/>
                </a:lnTo>
                <a:lnTo>
                  <a:pt x="661" y="93"/>
                </a:lnTo>
                <a:lnTo>
                  <a:pt x="670" y="79"/>
                </a:lnTo>
                <a:lnTo>
                  <a:pt x="683" y="74"/>
                </a:lnTo>
                <a:lnTo>
                  <a:pt x="716" y="55"/>
                </a:lnTo>
                <a:lnTo>
                  <a:pt x="758" y="41"/>
                </a:lnTo>
                <a:lnTo>
                  <a:pt x="785" y="19"/>
                </a:lnTo>
                <a:lnTo>
                  <a:pt x="810" y="14"/>
                </a:lnTo>
                <a:lnTo>
                  <a:pt x="859" y="0"/>
                </a:lnTo>
                <a:lnTo>
                  <a:pt x="878" y="0"/>
                </a:lnTo>
                <a:lnTo>
                  <a:pt x="906" y="8"/>
                </a:lnTo>
                <a:lnTo>
                  <a:pt x="966" y="8"/>
                </a:lnTo>
                <a:lnTo>
                  <a:pt x="1002" y="14"/>
                </a:lnTo>
                <a:lnTo>
                  <a:pt x="1035" y="19"/>
                </a:lnTo>
                <a:lnTo>
                  <a:pt x="1068" y="36"/>
                </a:lnTo>
                <a:lnTo>
                  <a:pt x="1081" y="47"/>
                </a:lnTo>
                <a:lnTo>
                  <a:pt x="1095" y="55"/>
                </a:lnTo>
                <a:lnTo>
                  <a:pt x="1095" y="66"/>
                </a:lnTo>
                <a:lnTo>
                  <a:pt x="1095" y="85"/>
                </a:lnTo>
                <a:lnTo>
                  <a:pt x="1109" y="118"/>
                </a:lnTo>
                <a:lnTo>
                  <a:pt x="1128" y="151"/>
                </a:lnTo>
                <a:lnTo>
                  <a:pt x="1142" y="184"/>
                </a:lnTo>
                <a:lnTo>
                  <a:pt x="1150" y="222"/>
                </a:lnTo>
                <a:lnTo>
                  <a:pt x="1161" y="255"/>
                </a:lnTo>
                <a:lnTo>
                  <a:pt x="1161" y="279"/>
                </a:lnTo>
                <a:lnTo>
                  <a:pt x="1155" y="288"/>
                </a:lnTo>
                <a:lnTo>
                  <a:pt x="1155" y="298"/>
                </a:lnTo>
                <a:lnTo>
                  <a:pt x="1155" y="331"/>
                </a:lnTo>
                <a:lnTo>
                  <a:pt x="1161" y="337"/>
                </a:lnTo>
                <a:lnTo>
                  <a:pt x="1183" y="411"/>
                </a:lnTo>
                <a:lnTo>
                  <a:pt x="1183" y="416"/>
                </a:lnTo>
                <a:lnTo>
                  <a:pt x="1175" y="422"/>
                </a:lnTo>
                <a:lnTo>
                  <a:pt x="1161" y="430"/>
                </a:lnTo>
                <a:lnTo>
                  <a:pt x="1142" y="435"/>
                </a:lnTo>
                <a:lnTo>
                  <a:pt x="1142" y="468"/>
                </a:lnTo>
                <a:lnTo>
                  <a:pt x="1136" y="482"/>
                </a:lnTo>
                <a:lnTo>
                  <a:pt x="1114" y="487"/>
                </a:lnTo>
                <a:lnTo>
                  <a:pt x="1128" y="507"/>
                </a:lnTo>
                <a:lnTo>
                  <a:pt x="1128" y="515"/>
                </a:lnTo>
                <a:lnTo>
                  <a:pt x="1123" y="520"/>
                </a:lnTo>
                <a:lnTo>
                  <a:pt x="1155" y="528"/>
                </a:lnTo>
                <a:lnTo>
                  <a:pt x="1169" y="528"/>
                </a:lnTo>
                <a:lnTo>
                  <a:pt x="1188" y="520"/>
                </a:lnTo>
                <a:lnTo>
                  <a:pt x="1202" y="507"/>
                </a:lnTo>
                <a:lnTo>
                  <a:pt x="1230" y="507"/>
                </a:lnTo>
                <a:lnTo>
                  <a:pt x="1257" y="507"/>
                </a:lnTo>
                <a:lnTo>
                  <a:pt x="1284" y="515"/>
                </a:lnTo>
                <a:lnTo>
                  <a:pt x="1279" y="578"/>
                </a:lnTo>
                <a:lnTo>
                  <a:pt x="1279" y="649"/>
                </a:lnTo>
                <a:lnTo>
                  <a:pt x="1279" y="723"/>
                </a:lnTo>
                <a:lnTo>
                  <a:pt x="1284" y="786"/>
                </a:lnTo>
                <a:lnTo>
                  <a:pt x="1123" y="81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97200" y="4336920"/>
            <a:ext cx="2199960" cy="1768680"/>
          </a:xfrm>
          <a:custGeom>
            <a:avLst/>
            <a:gdLst/>
            <a:ahLst/>
            <a:rect l="l" t="t" r="r" b="b"/>
            <a:pathLst>
              <a:path w="1386" h="1114">
                <a:moveTo>
                  <a:pt x="883" y="0"/>
                </a:moveTo>
                <a:lnTo>
                  <a:pt x="892" y="44"/>
                </a:lnTo>
                <a:lnTo>
                  <a:pt x="1336" y="44"/>
                </a:lnTo>
                <a:lnTo>
                  <a:pt x="1386" y="525"/>
                </a:lnTo>
                <a:lnTo>
                  <a:pt x="1317" y="597"/>
                </a:lnTo>
                <a:lnTo>
                  <a:pt x="1257" y="662"/>
                </a:lnTo>
                <a:lnTo>
                  <a:pt x="1196" y="731"/>
                </a:lnTo>
                <a:lnTo>
                  <a:pt x="1141" y="810"/>
                </a:lnTo>
                <a:lnTo>
                  <a:pt x="1095" y="881"/>
                </a:lnTo>
                <a:lnTo>
                  <a:pt x="1048" y="961"/>
                </a:lnTo>
                <a:lnTo>
                  <a:pt x="905" y="906"/>
                </a:lnTo>
                <a:lnTo>
                  <a:pt x="905" y="925"/>
                </a:lnTo>
                <a:lnTo>
                  <a:pt x="905" y="947"/>
                </a:lnTo>
                <a:lnTo>
                  <a:pt x="911" y="961"/>
                </a:lnTo>
                <a:lnTo>
                  <a:pt x="919" y="980"/>
                </a:lnTo>
                <a:lnTo>
                  <a:pt x="933" y="999"/>
                </a:lnTo>
                <a:lnTo>
                  <a:pt x="952" y="1010"/>
                </a:lnTo>
                <a:lnTo>
                  <a:pt x="980" y="1037"/>
                </a:lnTo>
                <a:lnTo>
                  <a:pt x="1007" y="1051"/>
                </a:lnTo>
                <a:lnTo>
                  <a:pt x="1040" y="1062"/>
                </a:lnTo>
                <a:lnTo>
                  <a:pt x="1067" y="1076"/>
                </a:lnTo>
                <a:lnTo>
                  <a:pt x="1081" y="1084"/>
                </a:lnTo>
                <a:lnTo>
                  <a:pt x="1081" y="1089"/>
                </a:lnTo>
                <a:lnTo>
                  <a:pt x="1081" y="1103"/>
                </a:lnTo>
                <a:lnTo>
                  <a:pt x="1067" y="1114"/>
                </a:lnTo>
                <a:lnTo>
                  <a:pt x="1048" y="1114"/>
                </a:lnTo>
                <a:lnTo>
                  <a:pt x="812" y="1114"/>
                </a:lnTo>
                <a:lnTo>
                  <a:pt x="785" y="1103"/>
                </a:lnTo>
                <a:lnTo>
                  <a:pt x="763" y="1084"/>
                </a:lnTo>
                <a:lnTo>
                  <a:pt x="757" y="1062"/>
                </a:lnTo>
                <a:lnTo>
                  <a:pt x="744" y="1043"/>
                </a:lnTo>
                <a:lnTo>
                  <a:pt x="722" y="1029"/>
                </a:lnTo>
                <a:lnTo>
                  <a:pt x="702" y="1018"/>
                </a:lnTo>
                <a:lnTo>
                  <a:pt x="675" y="1010"/>
                </a:lnTo>
                <a:lnTo>
                  <a:pt x="647" y="1037"/>
                </a:lnTo>
                <a:lnTo>
                  <a:pt x="568" y="972"/>
                </a:lnTo>
                <a:lnTo>
                  <a:pt x="971" y="451"/>
                </a:lnTo>
                <a:lnTo>
                  <a:pt x="1032" y="383"/>
                </a:lnTo>
                <a:lnTo>
                  <a:pt x="905" y="383"/>
                </a:lnTo>
                <a:lnTo>
                  <a:pt x="971" y="451"/>
                </a:lnTo>
                <a:lnTo>
                  <a:pt x="568" y="972"/>
                </a:lnTo>
                <a:lnTo>
                  <a:pt x="554" y="980"/>
                </a:lnTo>
                <a:lnTo>
                  <a:pt x="546" y="985"/>
                </a:lnTo>
                <a:lnTo>
                  <a:pt x="540" y="999"/>
                </a:lnTo>
                <a:lnTo>
                  <a:pt x="532" y="1010"/>
                </a:lnTo>
                <a:lnTo>
                  <a:pt x="532" y="1024"/>
                </a:lnTo>
                <a:lnTo>
                  <a:pt x="540" y="1037"/>
                </a:lnTo>
                <a:lnTo>
                  <a:pt x="582" y="1089"/>
                </a:lnTo>
                <a:lnTo>
                  <a:pt x="587" y="1103"/>
                </a:lnTo>
                <a:lnTo>
                  <a:pt x="582" y="1109"/>
                </a:lnTo>
                <a:lnTo>
                  <a:pt x="582" y="1114"/>
                </a:lnTo>
                <a:lnTo>
                  <a:pt x="568" y="1114"/>
                </a:lnTo>
                <a:lnTo>
                  <a:pt x="310" y="1114"/>
                </a:lnTo>
                <a:lnTo>
                  <a:pt x="296" y="1114"/>
                </a:lnTo>
                <a:lnTo>
                  <a:pt x="282" y="1109"/>
                </a:lnTo>
                <a:lnTo>
                  <a:pt x="263" y="1089"/>
                </a:lnTo>
                <a:lnTo>
                  <a:pt x="236" y="1051"/>
                </a:lnTo>
                <a:lnTo>
                  <a:pt x="214" y="1018"/>
                </a:lnTo>
                <a:lnTo>
                  <a:pt x="203" y="980"/>
                </a:lnTo>
                <a:lnTo>
                  <a:pt x="189" y="933"/>
                </a:lnTo>
                <a:lnTo>
                  <a:pt x="167" y="947"/>
                </a:lnTo>
                <a:lnTo>
                  <a:pt x="134" y="824"/>
                </a:lnTo>
                <a:lnTo>
                  <a:pt x="129" y="816"/>
                </a:lnTo>
                <a:lnTo>
                  <a:pt x="134" y="805"/>
                </a:lnTo>
                <a:lnTo>
                  <a:pt x="134" y="791"/>
                </a:lnTo>
                <a:lnTo>
                  <a:pt x="175" y="750"/>
                </a:lnTo>
                <a:lnTo>
                  <a:pt x="208" y="712"/>
                </a:lnTo>
                <a:lnTo>
                  <a:pt x="250" y="673"/>
                </a:lnTo>
                <a:lnTo>
                  <a:pt x="296" y="649"/>
                </a:lnTo>
                <a:lnTo>
                  <a:pt x="332" y="621"/>
                </a:lnTo>
                <a:lnTo>
                  <a:pt x="291" y="608"/>
                </a:lnTo>
                <a:lnTo>
                  <a:pt x="255" y="602"/>
                </a:lnTo>
                <a:lnTo>
                  <a:pt x="214" y="583"/>
                </a:lnTo>
                <a:lnTo>
                  <a:pt x="175" y="564"/>
                </a:lnTo>
                <a:lnTo>
                  <a:pt x="142" y="545"/>
                </a:lnTo>
                <a:lnTo>
                  <a:pt x="115" y="517"/>
                </a:lnTo>
                <a:lnTo>
                  <a:pt x="79" y="484"/>
                </a:lnTo>
                <a:lnTo>
                  <a:pt x="55" y="460"/>
                </a:lnTo>
                <a:lnTo>
                  <a:pt x="33" y="421"/>
                </a:lnTo>
                <a:lnTo>
                  <a:pt x="19" y="394"/>
                </a:lnTo>
                <a:lnTo>
                  <a:pt x="5" y="356"/>
                </a:lnTo>
                <a:lnTo>
                  <a:pt x="0" y="323"/>
                </a:lnTo>
                <a:lnTo>
                  <a:pt x="0" y="257"/>
                </a:lnTo>
                <a:lnTo>
                  <a:pt x="5" y="227"/>
                </a:lnTo>
                <a:lnTo>
                  <a:pt x="19" y="186"/>
                </a:lnTo>
                <a:lnTo>
                  <a:pt x="883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84800" y="2911320"/>
            <a:ext cx="1546200" cy="547920"/>
          </a:xfrm>
          <a:custGeom>
            <a:avLst/>
            <a:gdLst/>
            <a:ahLst/>
            <a:rect l="l" t="t" r="r" b="b"/>
            <a:pathLst>
              <a:path w="974" h="345">
                <a:moveTo>
                  <a:pt x="0" y="131"/>
                </a:moveTo>
                <a:lnTo>
                  <a:pt x="55" y="118"/>
                </a:lnTo>
                <a:lnTo>
                  <a:pt x="115" y="107"/>
                </a:lnTo>
                <a:lnTo>
                  <a:pt x="230" y="85"/>
                </a:lnTo>
                <a:lnTo>
                  <a:pt x="337" y="79"/>
                </a:lnTo>
                <a:lnTo>
                  <a:pt x="379" y="79"/>
                </a:lnTo>
                <a:lnTo>
                  <a:pt x="433" y="74"/>
                </a:lnTo>
                <a:lnTo>
                  <a:pt x="494" y="66"/>
                </a:lnTo>
                <a:lnTo>
                  <a:pt x="494" y="79"/>
                </a:lnTo>
                <a:lnTo>
                  <a:pt x="730" y="35"/>
                </a:lnTo>
                <a:lnTo>
                  <a:pt x="812" y="22"/>
                </a:lnTo>
                <a:lnTo>
                  <a:pt x="966" y="0"/>
                </a:lnTo>
                <a:lnTo>
                  <a:pt x="966" y="8"/>
                </a:lnTo>
                <a:lnTo>
                  <a:pt x="974" y="16"/>
                </a:lnTo>
                <a:lnTo>
                  <a:pt x="966" y="16"/>
                </a:lnTo>
                <a:lnTo>
                  <a:pt x="927" y="35"/>
                </a:lnTo>
                <a:lnTo>
                  <a:pt x="886" y="55"/>
                </a:lnTo>
                <a:lnTo>
                  <a:pt x="845" y="60"/>
                </a:lnTo>
                <a:lnTo>
                  <a:pt x="818" y="74"/>
                </a:lnTo>
                <a:lnTo>
                  <a:pt x="840" y="93"/>
                </a:lnTo>
                <a:lnTo>
                  <a:pt x="851" y="107"/>
                </a:lnTo>
                <a:lnTo>
                  <a:pt x="851" y="183"/>
                </a:lnTo>
                <a:lnTo>
                  <a:pt x="779" y="254"/>
                </a:lnTo>
                <a:lnTo>
                  <a:pt x="771" y="254"/>
                </a:lnTo>
                <a:lnTo>
                  <a:pt x="763" y="249"/>
                </a:lnTo>
                <a:lnTo>
                  <a:pt x="763" y="241"/>
                </a:lnTo>
                <a:lnTo>
                  <a:pt x="757" y="241"/>
                </a:lnTo>
                <a:lnTo>
                  <a:pt x="752" y="241"/>
                </a:lnTo>
                <a:lnTo>
                  <a:pt x="744" y="230"/>
                </a:lnTo>
                <a:lnTo>
                  <a:pt x="744" y="216"/>
                </a:lnTo>
                <a:lnTo>
                  <a:pt x="689" y="191"/>
                </a:lnTo>
                <a:lnTo>
                  <a:pt x="678" y="197"/>
                </a:lnTo>
                <a:lnTo>
                  <a:pt x="656" y="197"/>
                </a:lnTo>
                <a:lnTo>
                  <a:pt x="623" y="197"/>
                </a:lnTo>
                <a:lnTo>
                  <a:pt x="595" y="183"/>
                </a:lnTo>
                <a:lnTo>
                  <a:pt x="582" y="178"/>
                </a:lnTo>
                <a:lnTo>
                  <a:pt x="513" y="197"/>
                </a:lnTo>
                <a:lnTo>
                  <a:pt x="513" y="211"/>
                </a:lnTo>
                <a:lnTo>
                  <a:pt x="513" y="222"/>
                </a:lnTo>
                <a:lnTo>
                  <a:pt x="502" y="235"/>
                </a:lnTo>
                <a:lnTo>
                  <a:pt x="230" y="345"/>
                </a:lnTo>
                <a:lnTo>
                  <a:pt x="0" y="131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35200" y="2089080"/>
            <a:ext cx="225720" cy="265320"/>
          </a:xfrm>
          <a:custGeom>
            <a:avLst/>
            <a:gdLst/>
            <a:ahLst/>
            <a:rect l="l" t="t" r="r" b="b"/>
            <a:pathLst>
              <a:path w="142" h="167">
                <a:moveTo>
                  <a:pt x="0" y="0"/>
                </a:moveTo>
                <a:lnTo>
                  <a:pt x="33" y="0"/>
                </a:lnTo>
                <a:lnTo>
                  <a:pt x="66" y="0"/>
                </a:lnTo>
                <a:lnTo>
                  <a:pt x="79" y="0"/>
                </a:lnTo>
                <a:lnTo>
                  <a:pt x="90" y="0"/>
                </a:lnTo>
                <a:lnTo>
                  <a:pt x="98" y="0"/>
                </a:lnTo>
                <a:lnTo>
                  <a:pt x="107" y="3"/>
                </a:lnTo>
                <a:lnTo>
                  <a:pt x="120" y="3"/>
                </a:lnTo>
                <a:lnTo>
                  <a:pt x="126" y="6"/>
                </a:lnTo>
                <a:lnTo>
                  <a:pt x="129" y="9"/>
                </a:lnTo>
                <a:lnTo>
                  <a:pt x="134" y="17"/>
                </a:lnTo>
                <a:lnTo>
                  <a:pt x="140" y="22"/>
                </a:lnTo>
                <a:lnTo>
                  <a:pt x="140" y="33"/>
                </a:lnTo>
                <a:lnTo>
                  <a:pt x="142" y="39"/>
                </a:lnTo>
                <a:lnTo>
                  <a:pt x="142" y="47"/>
                </a:lnTo>
                <a:lnTo>
                  <a:pt x="142" y="52"/>
                </a:lnTo>
                <a:lnTo>
                  <a:pt x="142" y="61"/>
                </a:lnTo>
                <a:lnTo>
                  <a:pt x="140" y="74"/>
                </a:lnTo>
                <a:lnTo>
                  <a:pt x="140" y="80"/>
                </a:lnTo>
                <a:lnTo>
                  <a:pt x="137" y="85"/>
                </a:lnTo>
                <a:lnTo>
                  <a:pt x="134" y="88"/>
                </a:lnTo>
                <a:lnTo>
                  <a:pt x="129" y="91"/>
                </a:lnTo>
                <a:lnTo>
                  <a:pt x="118" y="96"/>
                </a:lnTo>
                <a:lnTo>
                  <a:pt x="104" y="99"/>
                </a:lnTo>
                <a:lnTo>
                  <a:pt x="93" y="99"/>
                </a:lnTo>
                <a:lnTo>
                  <a:pt x="82" y="99"/>
                </a:lnTo>
                <a:lnTo>
                  <a:pt x="74" y="99"/>
                </a:lnTo>
                <a:lnTo>
                  <a:pt x="66" y="99"/>
                </a:lnTo>
                <a:lnTo>
                  <a:pt x="66" y="135"/>
                </a:lnTo>
                <a:lnTo>
                  <a:pt x="66" y="167"/>
                </a:lnTo>
                <a:lnTo>
                  <a:pt x="33" y="167"/>
                </a:lnTo>
                <a:lnTo>
                  <a:pt x="0" y="167"/>
                </a:lnTo>
                <a:lnTo>
                  <a:pt x="0" y="85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66" y="28"/>
                </a:moveTo>
                <a:lnTo>
                  <a:pt x="66" y="50"/>
                </a:lnTo>
                <a:lnTo>
                  <a:pt x="66" y="72"/>
                </a:lnTo>
                <a:lnTo>
                  <a:pt x="68" y="72"/>
                </a:lnTo>
                <a:lnTo>
                  <a:pt x="79" y="69"/>
                </a:lnTo>
                <a:lnTo>
                  <a:pt x="82" y="69"/>
                </a:lnTo>
                <a:lnTo>
                  <a:pt x="82" y="69"/>
                </a:lnTo>
                <a:lnTo>
                  <a:pt x="85" y="63"/>
                </a:lnTo>
                <a:lnTo>
                  <a:pt x="85" y="55"/>
                </a:lnTo>
                <a:lnTo>
                  <a:pt x="85" y="50"/>
                </a:lnTo>
                <a:lnTo>
                  <a:pt x="85" y="41"/>
                </a:lnTo>
                <a:lnTo>
                  <a:pt x="85" y="36"/>
                </a:lnTo>
                <a:lnTo>
                  <a:pt x="82" y="31"/>
                </a:lnTo>
                <a:lnTo>
                  <a:pt x="79" y="28"/>
                </a:lnTo>
                <a:lnTo>
                  <a:pt x="77" y="28"/>
                </a:lnTo>
                <a:lnTo>
                  <a:pt x="66" y="28"/>
                </a:lnTo>
                <a:lnTo>
                  <a:pt x="66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62440" y="2089080"/>
            <a:ext cx="169920" cy="265320"/>
          </a:xfrm>
          <a:custGeom>
            <a:avLst/>
            <a:gdLst/>
            <a:ahLst/>
            <a:rect l="l" t="t" r="r" b="b"/>
            <a:pathLst>
              <a:path w="107" h="167">
                <a:moveTo>
                  <a:pt x="107" y="0"/>
                </a:moveTo>
                <a:lnTo>
                  <a:pt x="107" y="85"/>
                </a:lnTo>
                <a:lnTo>
                  <a:pt x="107" y="167"/>
                </a:lnTo>
                <a:lnTo>
                  <a:pt x="76" y="167"/>
                </a:lnTo>
                <a:lnTo>
                  <a:pt x="43" y="167"/>
                </a:lnTo>
                <a:lnTo>
                  <a:pt x="43" y="124"/>
                </a:lnTo>
                <a:lnTo>
                  <a:pt x="43" y="77"/>
                </a:lnTo>
                <a:lnTo>
                  <a:pt x="43" y="69"/>
                </a:lnTo>
                <a:lnTo>
                  <a:pt x="43" y="63"/>
                </a:lnTo>
                <a:lnTo>
                  <a:pt x="43" y="55"/>
                </a:lnTo>
                <a:lnTo>
                  <a:pt x="43" y="52"/>
                </a:lnTo>
                <a:lnTo>
                  <a:pt x="41" y="50"/>
                </a:lnTo>
                <a:lnTo>
                  <a:pt x="35" y="47"/>
                </a:lnTo>
                <a:lnTo>
                  <a:pt x="30" y="47"/>
                </a:lnTo>
                <a:lnTo>
                  <a:pt x="24" y="47"/>
                </a:lnTo>
                <a:lnTo>
                  <a:pt x="16" y="47"/>
                </a:lnTo>
                <a:lnTo>
                  <a:pt x="8" y="47"/>
                </a:lnTo>
                <a:lnTo>
                  <a:pt x="5" y="47"/>
                </a:lnTo>
                <a:lnTo>
                  <a:pt x="0" y="47"/>
                </a:lnTo>
                <a:lnTo>
                  <a:pt x="0" y="25"/>
                </a:lnTo>
                <a:lnTo>
                  <a:pt x="21" y="22"/>
                </a:lnTo>
                <a:lnTo>
                  <a:pt x="41" y="17"/>
                </a:lnTo>
                <a:lnTo>
                  <a:pt x="57" y="9"/>
                </a:lnTo>
                <a:lnTo>
                  <a:pt x="71" y="0"/>
                </a:lnTo>
                <a:lnTo>
                  <a:pt x="90" y="0"/>
                </a:lnTo>
                <a:lnTo>
                  <a:pt x="10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21440" y="1938240"/>
            <a:ext cx="199800" cy="265320"/>
          </a:xfrm>
          <a:custGeom>
            <a:avLst/>
            <a:gdLst/>
            <a:ahLst/>
            <a:rect l="l" t="t" r="r" b="b"/>
            <a:pathLst>
              <a:path w="126" h="167">
                <a:moveTo>
                  <a:pt x="0" y="0"/>
                </a:moveTo>
                <a:lnTo>
                  <a:pt x="30" y="0"/>
                </a:lnTo>
                <a:lnTo>
                  <a:pt x="60" y="0"/>
                </a:lnTo>
                <a:lnTo>
                  <a:pt x="71" y="0"/>
                </a:lnTo>
                <a:lnTo>
                  <a:pt x="82" y="2"/>
                </a:lnTo>
                <a:lnTo>
                  <a:pt x="96" y="2"/>
                </a:lnTo>
                <a:lnTo>
                  <a:pt x="107" y="8"/>
                </a:lnTo>
                <a:lnTo>
                  <a:pt x="112" y="11"/>
                </a:lnTo>
                <a:lnTo>
                  <a:pt x="115" y="13"/>
                </a:lnTo>
                <a:lnTo>
                  <a:pt x="121" y="16"/>
                </a:lnTo>
                <a:lnTo>
                  <a:pt x="126" y="24"/>
                </a:lnTo>
                <a:lnTo>
                  <a:pt x="126" y="35"/>
                </a:lnTo>
                <a:lnTo>
                  <a:pt x="126" y="46"/>
                </a:lnTo>
                <a:lnTo>
                  <a:pt x="126" y="54"/>
                </a:lnTo>
                <a:lnTo>
                  <a:pt x="126" y="60"/>
                </a:lnTo>
                <a:lnTo>
                  <a:pt x="126" y="68"/>
                </a:lnTo>
                <a:lnTo>
                  <a:pt x="126" y="76"/>
                </a:lnTo>
                <a:lnTo>
                  <a:pt x="123" y="79"/>
                </a:lnTo>
                <a:lnTo>
                  <a:pt x="123" y="84"/>
                </a:lnTo>
                <a:lnTo>
                  <a:pt x="121" y="87"/>
                </a:lnTo>
                <a:lnTo>
                  <a:pt x="115" y="90"/>
                </a:lnTo>
                <a:lnTo>
                  <a:pt x="107" y="95"/>
                </a:lnTo>
                <a:lnTo>
                  <a:pt x="93" y="98"/>
                </a:lnTo>
                <a:lnTo>
                  <a:pt x="74" y="98"/>
                </a:lnTo>
                <a:lnTo>
                  <a:pt x="60" y="98"/>
                </a:lnTo>
                <a:lnTo>
                  <a:pt x="60" y="134"/>
                </a:lnTo>
                <a:lnTo>
                  <a:pt x="60" y="167"/>
                </a:lnTo>
                <a:lnTo>
                  <a:pt x="0" y="167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60" y="30"/>
                </a:moveTo>
                <a:lnTo>
                  <a:pt x="60" y="71"/>
                </a:lnTo>
                <a:lnTo>
                  <a:pt x="63" y="71"/>
                </a:lnTo>
                <a:lnTo>
                  <a:pt x="63" y="71"/>
                </a:lnTo>
                <a:lnTo>
                  <a:pt x="71" y="71"/>
                </a:lnTo>
                <a:lnTo>
                  <a:pt x="74" y="68"/>
                </a:lnTo>
                <a:lnTo>
                  <a:pt x="77" y="63"/>
                </a:lnTo>
                <a:lnTo>
                  <a:pt x="79" y="57"/>
                </a:lnTo>
                <a:lnTo>
                  <a:pt x="79" y="49"/>
                </a:lnTo>
                <a:lnTo>
                  <a:pt x="79" y="43"/>
                </a:lnTo>
                <a:lnTo>
                  <a:pt x="79" y="38"/>
                </a:lnTo>
                <a:lnTo>
                  <a:pt x="77" y="35"/>
                </a:lnTo>
                <a:lnTo>
                  <a:pt x="74" y="32"/>
                </a:lnTo>
                <a:lnTo>
                  <a:pt x="68" y="30"/>
                </a:lnTo>
                <a:lnTo>
                  <a:pt x="60" y="30"/>
                </a:lnTo>
                <a:lnTo>
                  <a:pt x="60" y="30"/>
                </a:lnTo>
                <a:lnTo>
                  <a:pt x="60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21320" y="1933560"/>
            <a:ext cx="200160" cy="270000"/>
          </a:xfrm>
          <a:custGeom>
            <a:avLst/>
            <a:gdLst/>
            <a:ahLst/>
            <a:rect l="l" t="t" r="r" b="b"/>
            <a:pathLst>
              <a:path w="126" h="170">
                <a:moveTo>
                  <a:pt x="121" y="142"/>
                </a:moveTo>
                <a:lnTo>
                  <a:pt x="121" y="156"/>
                </a:lnTo>
                <a:lnTo>
                  <a:pt x="121" y="170"/>
                </a:lnTo>
                <a:lnTo>
                  <a:pt x="61" y="170"/>
                </a:lnTo>
                <a:lnTo>
                  <a:pt x="0" y="170"/>
                </a:lnTo>
                <a:lnTo>
                  <a:pt x="0" y="145"/>
                </a:lnTo>
                <a:lnTo>
                  <a:pt x="11" y="131"/>
                </a:lnTo>
                <a:lnTo>
                  <a:pt x="25" y="115"/>
                </a:lnTo>
                <a:lnTo>
                  <a:pt x="33" y="104"/>
                </a:lnTo>
                <a:lnTo>
                  <a:pt x="44" y="93"/>
                </a:lnTo>
                <a:lnTo>
                  <a:pt x="50" y="82"/>
                </a:lnTo>
                <a:lnTo>
                  <a:pt x="55" y="74"/>
                </a:lnTo>
                <a:lnTo>
                  <a:pt x="61" y="68"/>
                </a:lnTo>
                <a:lnTo>
                  <a:pt x="66" y="63"/>
                </a:lnTo>
                <a:lnTo>
                  <a:pt x="69" y="57"/>
                </a:lnTo>
                <a:lnTo>
                  <a:pt x="71" y="49"/>
                </a:lnTo>
                <a:lnTo>
                  <a:pt x="74" y="44"/>
                </a:lnTo>
                <a:lnTo>
                  <a:pt x="74" y="38"/>
                </a:lnTo>
                <a:lnTo>
                  <a:pt x="74" y="33"/>
                </a:lnTo>
                <a:lnTo>
                  <a:pt x="71" y="30"/>
                </a:lnTo>
                <a:lnTo>
                  <a:pt x="69" y="27"/>
                </a:lnTo>
                <a:lnTo>
                  <a:pt x="63" y="27"/>
                </a:lnTo>
                <a:lnTo>
                  <a:pt x="58" y="27"/>
                </a:lnTo>
                <a:lnTo>
                  <a:pt x="52" y="30"/>
                </a:lnTo>
                <a:lnTo>
                  <a:pt x="50" y="35"/>
                </a:lnTo>
                <a:lnTo>
                  <a:pt x="50" y="44"/>
                </a:lnTo>
                <a:lnTo>
                  <a:pt x="50" y="60"/>
                </a:lnTo>
                <a:lnTo>
                  <a:pt x="0" y="60"/>
                </a:lnTo>
                <a:lnTo>
                  <a:pt x="0" y="57"/>
                </a:lnTo>
                <a:lnTo>
                  <a:pt x="0" y="55"/>
                </a:lnTo>
                <a:lnTo>
                  <a:pt x="0" y="41"/>
                </a:lnTo>
                <a:lnTo>
                  <a:pt x="3" y="33"/>
                </a:lnTo>
                <a:lnTo>
                  <a:pt x="3" y="24"/>
                </a:lnTo>
                <a:lnTo>
                  <a:pt x="11" y="16"/>
                </a:lnTo>
                <a:lnTo>
                  <a:pt x="19" y="11"/>
                </a:lnTo>
                <a:lnTo>
                  <a:pt x="30" y="5"/>
                </a:lnTo>
                <a:lnTo>
                  <a:pt x="44" y="3"/>
                </a:lnTo>
                <a:lnTo>
                  <a:pt x="61" y="0"/>
                </a:lnTo>
                <a:lnTo>
                  <a:pt x="74" y="3"/>
                </a:lnTo>
                <a:lnTo>
                  <a:pt x="91" y="3"/>
                </a:lnTo>
                <a:lnTo>
                  <a:pt x="102" y="8"/>
                </a:lnTo>
                <a:lnTo>
                  <a:pt x="110" y="14"/>
                </a:lnTo>
                <a:lnTo>
                  <a:pt x="118" y="19"/>
                </a:lnTo>
                <a:lnTo>
                  <a:pt x="124" y="27"/>
                </a:lnTo>
                <a:lnTo>
                  <a:pt x="126" y="35"/>
                </a:lnTo>
                <a:lnTo>
                  <a:pt x="126" y="44"/>
                </a:lnTo>
                <a:lnTo>
                  <a:pt x="124" y="60"/>
                </a:lnTo>
                <a:lnTo>
                  <a:pt x="121" y="66"/>
                </a:lnTo>
                <a:lnTo>
                  <a:pt x="118" y="74"/>
                </a:lnTo>
                <a:lnTo>
                  <a:pt x="110" y="85"/>
                </a:lnTo>
                <a:lnTo>
                  <a:pt x="99" y="98"/>
                </a:lnTo>
                <a:lnTo>
                  <a:pt x="82" y="118"/>
                </a:lnTo>
                <a:lnTo>
                  <a:pt x="61" y="142"/>
                </a:lnTo>
                <a:lnTo>
                  <a:pt x="91" y="142"/>
                </a:lnTo>
                <a:lnTo>
                  <a:pt x="121" y="1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16360" y="3932280"/>
            <a:ext cx="199800" cy="257040"/>
          </a:xfrm>
          <a:custGeom>
            <a:avLst/>
            <a:gdLst/>
            <a:ahLst/>
            <a:rect l="l" t="t" r="r" b="b"/>
            <a:pathLst>
              <a:path w="126" h="162">
                <a:moveTo>
                  <a:pt x="0" y="0"/>
                </a:moveTo>
                <a:lnTo>
                  <a:pt x="60" y="0"/>
                </a:lnTo>
                <a:lnTo>
                  <a:pt x="69" y="0"/>
                </a:lnTo>
                <a:lnTo>
                  <a:pt x="80" y="0"/>
                </a:lnTo>
                <a:lnTo>
                  <a:pt x="96" y="0"/>
                </a:lnTo>
                <a:lnTo>
                  <a:pt x="107" y="6"/>
                </a:lnTo>
                <a:lnTo>
                  <a:pt x="115" y="8"/>
                </a:lnTo>
                <a:lnTo>
                  <a:pt x="121" y="17"/>
                </a:lnTo>
                <a:lnTo>
                  <a:pt x="123" y="22"/>
                </a:lnTo>
                <a:lnTo>
                  <a:pt x="123" y="33"/>
                </a:lnTo>
                <a:lnTo>
                  <a:pt x="126" y="44"/>
                </a:lnTo>
                <a:lnTo>
                  <a:pt x="126" y="52"/>
                </a:lnTo>
                <a:lnTo>
                  <a:pt x="126" y="60"/>
                </a:lnTo>
                <a:lnTo>
                  <a:pt x="123" y="71"/>
                </a:lnTo>
                <a:lnTo>
                  <a:pt x="123" y="77"/>
                </a:lnTo>
                <a:lnTo>
                  <a:pt x="121" y="82"/>
                </a:lnTo>
                <a:lnTo>
                  <a:pt x="115" y="88"/>
                </a:lnTo>
                <a:lnTo>
                  <a:pt x="104" y="93"/>
                </a:lnTo>
                <a:lnTo>
                  <a:pt x="91" y="96"/>
                </a:lnTo>
                <a:lnTo>
                  <a:pt x="74" y="96"/>
                </a:lnTo>
                <a:lnTo>
                  <a:pt x="60" y="96"/>
                </a:lnTo>
                <a:lnTo>
                  <a:pt x="60" y="162"/>
                </a:lnTo>
                <a:lnTo>
                  <a:pt x="0" y="162"/>
                </a:lnTo>
                <a:lnTo>
                  <a:pt x="0" y="82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60" y="28"/>
                </a:moveTo>
                <a:lnTo>
                  <a:pt x="60" y="47"/>
                </a:lnTo>
                <a:lnTo>
                  <a:pt x="60" y="69"/>
                </a:lnTo>
                <a:lnTo>
                  <a:pt x="63" y="69"/>
                </a:lnTo>
                <a:lnTo>
                  <a:pt x="69" y="66"/>
                </a:lnTo>
                <a:lnTo>
                  <a:pt x="74" y="66"/>
                </a:lnTo>
                <a:lnTo>
                  <a:pt x="77" y="60"/>
                </a:lnTo>
                <a:lnTo>
                  <a:pt x="77" y="55"/>
                </a:lnTo>
                <a:lnTo>
                  <a:pt x="77" y="47"/>
                </a:lnTo>
                <a:lnTo>
                  <a:pt x="77" y="41"/>
                </a:lnTo>
                <a:lnTo>
                  <a:pt x="77" y="33"/>
                </a:lnTo>
                <a:lnTo>
                  <a:pt x="74" y="30"/>
                </a:lnTo>
                <a:lnTo>
                  <a:pt x="69" y="28"/>
                </a:lnTo>
                <a:lnTo>
                  <a:pt x="60" y="28"/>
                </a:lnTo>
                <a:lnTo>
                  <a:pt x="60" y="28"/>
                </a:lnTo>
                <a:lnTo>
                  <a:pt x="60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13000" y="3927600"/>
            <a:ext cx="204840" cy="264960"/>
          </a:xfrm>
          <a:custGeom>
            <a:avLst/>
            <a:gdLst/>
            <a:ahLst/>
            <a:rect l="l" t="t" r="r" b="b"/>
            <a:pathLst>
              <a:path w="129" h="167">
                <a:moveTo>
                  <a:pt x="104" y="72"/>
                </a:moveTo>
                <a:lnTo>
                  <a:pt x="115" y="77"/>
                </a:lnTo>
                <a:lnTo>
                  <a:pt x="123" y="83"/>
                </a:lnTo>
                <a:lnTo>
                  <a:pt x="126" y="88"/>
                </a:lnTo>
                <a:lnTo>
                  <a:pt x="129" y="94"/>
                </a:lnTo>
                <a:lnTo>
                  <a:pt x="129" y="104"/>
                </a:lnTo>
                <a:lnTo>
                  <a:pt x="129" y="115"/>
                </a:lnTo>
                <a:lnTo>
                  <a:pt x="129" y="132"/>
                </a:lnTo>
                <a:lnTo>
                  <a:pt x="126" y="140"/>
                </a:lnTo>
                <a:lnTo>
                  <a:pt x="123" y="146"/>
                </a:lnTo>
                <a:lnTo>
                  <a:pt x="120" y="151"/>
                </a:lnTo>
                <a:lnTo>
                  <a:pt x="115" y="156"/>
                </a:lnTo>
                <a:lnTo>
                  <a:pt x="104" y="162"/>
                </a:lnTo>
                <a:lnTo>
                  <a:pt x="87" y="167"/>
                </a:lnTo>
                <a:lnTo>
                  <a:pt x="65" y="167"/>
                </a:lnTo>
                <a:lnTo>
                  <a:pt x="52" y="167"/>
                </a:lnTo>
                <a:lnTo>
                  <a:pt x="41" y="167"/>
                </a:lnTo>
                <a:lnTo>
                  <a:pt x="33" y="165"/>
                </a:lnTo>
                <a:lnTo>
                  <a:pt x="24" y="162"/>
                </a:lnTo>
                <a:lnTo>
                  <a:pt x="19" y="159"/>
                </a:lnTo>
                <a:lnTo>
                  <a:pt x="11" y="154"/>
                </a:lnTo>
                <a:lnTo>
                  <a:pt x="8" y="151"/>
                </a:lnTo>
                <a:lnTo>
                  <a:pt x="5" y="146"/>
                </a:lnTo>
                <a:lnTo>
                  <a:pt x="2" y="140"/>
                </a:lnTo>
                <a:lnTo>
                  <a:pt x="2" y="132"/>
                </a:lnTo>
                <a:lnTo>
                  <a:pt x="0" y="124"/>
                </a:lnTo>
                <a:lnTo>
                  <a:pt x="0" y="113"/>
                </a:lnTo>
                <a:lnTo>
                  <a:pt x="0" y="107"/>
                </a:lnTo>
                <a:lnTo>
                  <a:pt x="0" y="102"/>
                </a:lnTo>
                <a:lnTo>
                  <a:pt x="27" y="102"/>
                </a:lnTo>
                <a:lnTo>
                  <a:pt x="54" y="102"/>
                </a:lnTo>
                <a:lnTo>
                  <a:pt x="54" y="113"/>
                </a:lnTo>
                <a:lnTo>
                  <a:pt x="54" y="126"/>
                </a:lnTo>
                <a:lnTo>
                  <a:pt x="54" y="132"/>
                </a:lnTo>
                <a:lnTo>
                  <a:pt x="54" y="135"/>
                </a:lnTo>
                <a:lnTo>
                  <a:pt x="57" y="140"/>
                </a:lnTo>
                <a:lnTo>
                  <a:pt x="60" y="143"/>
                </a:lnTo>
                <a:lnTo>
                  <a:pt x="65" y="143"/>
                </a:lnTo>
                <a:lnTo>
                  <a:pt x="71" y="143"/>
                </a:lnTo>
                <a:lnTo>
                  <a:pt x="71" y="140"/>
                </a:lnTo>
                <a:lnTo>
                  <a:pt x="74" y="137"/>
                </a:lnTo>
                <a:lnTo>
                  <a:pt x="74" y="132"/>
                </a:lnTo>
                <a:lnTo>
                  <a:pt x="74" y="126"/>
                </a:lnTo>
                <a:lnTo>
                  <a:pt x="74" y="121"/>
                </a:lnTo>
                <a:lnTo>
                  <a:pt x="74" y="115"/>
                </a:lnTo>
                <a:lnTo>
                  <a:pt x="74" y="110"/>
                </a:lnTo>
                <a:lnTo>
                  <a:pt x="74" y="102"/>
                </a:lnTo>
                <a:lnTo>
                  <a:pt x="71" y="96"/>
                </a:lnTo>
                <a:lnTo>
                  <a:pt x="68" y="91"/>
                </a:lnTo>
                <a:lnTo>
                  <a:pt x="63" y="88"/>
                </a:lnTo>
                <a:lnTo>
                  <a:pt x="60" y="88"/>
                </a:lnTo>
                <a:lnTo>
                  <a:pt x="54" y="88"/>
                </a:lnTo>
                <a:lnTo>
                  <a:pt x="49" y="88"/>
                </a:lnTo>
                <a:lnTo>
                  <a:pt x="41" y="88"/>
                </a:lnTo>
                <a:lnTo>
                  <a:pt x="41" y="66"/>
                </a:lnTo>
                <a:lnTo>
                  <a:pt x="49" y="66"/>
                </a:lnTo>
                <a:lnTo>
                  <a:pt x="57" y="66"/>
                </a:lnTo>
                <a:lnTo>
                  <a:pt x="63" y="66"/>
                </a:lnTo>
                <a:lnTo>
                  <a:pt x="65" y="63"/>
                </a:lnTo>
                <a:lnTo>
                  <a:pt x="71" y="61"/>
                </a:lnTo>
                <a:lnTo>
                  <a:pt x="71" y="58"/>
                </a:lnTo>
                <a:lnTo>
                  <a:pt x="74" y="52"/>
                </a:lnTo>
                <a:lnTo>
                  <a:pt x="74" y="47"/>
                </a:lnTo>
                <a:lnTo>
                  <a:pt x="74" y="44"/>
                </a:lnTo>
                <a:lnTo>
                  <a:pt x="74" y="39"/>
                </a:lnTo>
                <a:lnTo>
                  <a:pt x="74" y="31"/>
                </a:lnTo>
                <a:lnTo>
                  <a:pt x="71" y="25"/>
                </a:lnTo>
                <a:lnTo>
                  <a:pt x="71" y="25"/>
                </a:lnTo>
                <a:lnTo>
                  <a:pt x="65" y="25"/>
                </a:lnTo>
                <a:lnTo>
                  <a:pt x="60" y="25"/>
                </a:lnTo>
                <a:lnTo>
                  <a:pt x="57" y="25"/>
                </a:lnTo>
                <a:lnTo>
                  <a:pt x="54" y="31"/>
                </a:lnTo>
                <a:lnTo>
                  <a:pt x="54" y="39"/>
                </a:lnTo>
                <a:lnTo>
                  <a:pt x="54" y="44"/>
                </a:lnTo>
                <a:lnTo>
                  <a:pt x="54" y="52"/>
                </a:lnTo>
                <a:lnTo>
                  <a:pt x="27" y="52"/>
                </a:lnTo>
                <a:lnTo>
                  <a:pt x="0" y="52"/>
                </a:lnTo>
                <a:lnTo>
                  <a:pt x="0" y="44"/>
                </a:lnTo>
                <a:lnTo>
                  <a:pt x="0" y="39"/>
                </a:lnTo>
                <a:lnTo>
                  <a:pt x="2" y="28"/>
                </a:lnTo>
                <a:lnTo>
                  <a:pt x="5" y="20"/>
                </a:lnTo>
                <a:lnTo>
                  <a:pt x="8" y="11"/>
                </a:lnTo>
                <a:lnTo>
                  <a:pt x="13" y="6"/>
                </a:lnTo>
                <a:lnTo>
                  <a:pt x="24" y="3"/>
                </a:lnTo>
                <a:lnTo>
                  <a:pt x="33" y="3"/>
                </a:lnTo>
                <a:lnTo>
                  <a:pt x="46" y="0"/>
                </a:lnTo>
                <a:lnTo>
                  <a:pt x="60" y="0"/>
                </a:lnTo>
                <a:lnTo>
                  <a:pt x="79" y="0"/>
                </a:lnTo>
                <a:lnTo>
                  <a:pt x="93" y="3"/>
                </a:lnTo>
                <a:lnTo>
                  <a:pt x="104" y="6"/>
                </a:lnTo>
                <a:lnTo>
                  <a:pt x="115" y="11"/>
                </a:lnTo>
                <a:lnTo>
                  <a:pt x="120" y="17"/>
                </a:lnTo>
                <a:lnTo>
                  <a:pt x="123" y="25"/>
                </a:lnTo>
                <a:lnTo>
                  <a:pt x="126" y="33"/>
                </a:lnTo>
                <a:lnTo>
                  <a:pt x="129" y="41"/>
                </a:lnTo>
                <a:lnTo>
                  <a:pt x="126" y="52"/>
                </a:lnTo>
                <a:lnTo>
                  <a:pt x="123" y="61"/>
                </a:lnTo>
                <a:lnTo>
                  <a:pt x="115" y="66"/>
                </a:lnTo>
                <a:lnTo>
                  <a:pt x="112" y="69"/>
                </a:lnTo>
                <a:lnTo>
                  <a:pt x="104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92920" y="3006720"/>
            <a:ext cx="195120" cy="270000"/>
          </a:xfrm>
          <a:custGeom>
            <a:avLst/>
            <a:gdLst/>
            <a:ahLst/>
            <a:rect l="l" t="t" r="r" b="b"/>
            <a:pathLst>
              <a:path w="123" h="170">
                <a:moveTo>
                  <a:pt x="0" y="0"/>
                </a:moveTo>
                <a:lnTo>
                  <a:pt x="57" y="0"/>
                </a:lnTo>
                <a:lnTo>
                  <a:pt x="68" y="0"/>
                </a:lnTo>
                <a:lnTo>
                  <a:pt x="76" y="0"/>
                </a:lnTo>
                <a:lnTo>
                  <a:pt x="93" y="3"/>
                </a:lnTo>
                <a:lnTo>
                  <a:pt x="104" y="6"/>
                </a:lnTo>
                <a:lnTo>
                  <a:pt x="112" y="11"/>
                </a:lnTo>
                <a:lnTo>
                  <a:pt x="118" y="16"/>
                </a:lnTo>
                <a:lnTo>
                  <a:pt x="120" y="25"/>
                </a:lnTo>
                <a:lnTo>
                  <a:pt x="120" y="33"/>
                </a:lnTo>
                <a:lnTo>
                  <a:pt x="123" y="47"/>
                </a:lnTo>
                <a:lnTo>
                  <a:pt x="123" y="63"/>
                </a:lnTo>
                <a:lnTo>
                  <a:pt x="120" y="77"/>
                </a:lnTo>
                <a:lnTo>
                  <a:pt x="118" y="85"/>
                </a:lnTo>
                <a:lnTo>
                  <a:pt x="112" y="90"/>
                </a:lnTo>
                <a:lnTo>
                  <a:pt x="101" y="96"/>
                </a:lnTo>
                <a:lnTo>
                  <a:pt x="90" y="99"/>
                </a:lnTo>
                <a:lnTo>
                  <a:pt x="74" y="101"/>
                </a:lnTo>
                <a:lnTo>
                  <a:pt x="57" y="101"/>
                </a:lnTo>
                <a:lnTo>
                  <a:pt x="57" y="134"/>
                </a:lnTo>
                <a:lnTo>
                  <a:pt x="57" y="170"/>
                </a:lnTo>
                <a:lnTo>
                  <a:pt x="0" y="170"/>
                </a:lnTo>
                <a:lnTo>
                  <a:pt x="0" y="85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57" y="27"/>
                </a:moveTo>
                <a:lnTo>
                  <a:pt x="57" y="49"/>
                </a:lnTo>
                <a:lnTo>
                  <a:pt x="57" y="71"/>
                </a:lnTo>
                <a:lnTo>
                  <a:pt x="60" y="71"/>
                </a:lnTo>
                <a:lnTo>
                  <a:pt x="68" y="71"/>
                </a:lnTo>
                <a:lnTo>
                  <a:pt x="71" y="68"/>
                </a:lnTo>
                <a:lnTo>
                  <a:pt x="74" y="66"/>
                </a:lnTo>
                <a:lnTo>
                  <a:pt x="74" y="58"/>
                </a:lnTo>
                <a:lnTo>
                  <a:pt x="74" y="49"/>
                </a:lnTo>
                <a:lnTo>
                  <a:pt x="74" y="44"/>
                </a:lnTo>
                <a:lnTo>
                  <a:pt x="74" y="36"/>
                </a:lnTo>
                <a:lnTo>
                  <a:pt x="71" y="30"/>
                </a:lnTo>
                <a:lnTo>
                  <a:pt x="65" y="30"/>
                </a:lnTo>
                <a:lnTo>
                  <a:pt x="63" y="27"/>
                </a:lnTo>
                <a:lnTo>
                  <a:pt x="57" y="27"/>
                </a:lnTo>
                <a:lnTo>
                  <a:pt x="57" y="27"/>
                </a:lnTo>
                <a:lnTo>
                  <a:pt x="57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75520" y="3006720"/>
            <a:ext cx="212760" cy="270000"/>
          </a:xfrm>
          <a:custGeom>
            <a:avLst/>
            <a:gdLst/>
            <a:ahLst/>
            <a:rect l="l" t="t" r="r" b="b"/>
            <a:pathLst>
              <a:path w="134" h="170">
                <a:moveTo>
                  <a:pt x="121" y="0"/>
                </a:moveTo>
                <a:lnTo>
                  <a:pt x="121" y="55"/>
                </a:lnTo>
                <a:lnTo>
                  <a:pt x="121" y="110"/>
                </a:lnTo>
                <a:lnTo>
                  <a:pt x="134" y="110"/>
                </a:lnTo>
                <a:lnTo>
                  <a:pt x="134" y="126"/>
                </a:lnTo>
                <a:lnTo>
                  <a:pt x="134" y="140"/>
                </a:lnTo>
                <a:lnTo>
                  <a:pt x="121" y="140"/>
                </a:lnTo>
                <a:lnTo>
                  <a:pt x="121" y="153"/>
                </a:lnTo>
                <a:lnTo>
                  <a:pt x="121" y="170"/>
                </a:lnTo>
                <a:lnTo>
                  <a:pt x="66" y="170"/>
                </a:lnTo>
                <a:lnTo>
                  <a:pt x="66" y="153"/>
                </a:lnTo>
                <a:lnTo>
                  <a:pt x="66" y="140"/>
                </a:lnTo>
                <a:lnTo>
                  <a:pt x="0" y="140"/>
                </a:lnTo>
                <a:lnTo>
                  <a:pt x="0" y="126"/>
                </a:lnTo>
                <a:lnTo>
                  <a:pt x="0" y="110"/>
                </a:lnTo>
                <a:lnTo>
                  <a:pt x="25" y="55"/>
                </a:lnTo>
                <a:lnTo>
                  <a:pt x="49" y="0"/>
                </a:lnTo>
                <a:lnTo>
                  <a:pt x="85" y="0"/>
                </a:lnTo>
                <a:lnTo>
                  <a:pt x="121" y="0"/>
                </a:lnTo>
                <a:lnTo>
                  <a:pt x="121" y="0"/>
                </a:lnTo>
                <a:close/>
                <a:moveTo>
                  <a:pt x="66" y="110"/>
                </a:moveTo>
                <a:lnTo>
                  <a:pt x="66" y="74"/>
                </a:lnTo>
                <a:lnTo>
                  <a:pt x="66" y="38"/>
                </a:lnTo>
                <a:lnTo>
                  <a:pt x="52" y="74"/>
                </a:lnTo>
                <a:lnTo>
                  <a:pt x="41" y="110"/>
                </a:lnTo>
                <a:lnTo>
                  <a:pt x="52" y="110"/>
                </a:lnTo>
                <a:lnTo>
                  <a:pt x="66" y="110"/>
                </a:lnTo>
                <a:lnTo>
                  <a:pt x="66" y="1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83120" y="3379680"/>
            <a:ext cx="196920" cy="262080"/>
          </a:xfrm>
          <a:custGeom>
            <a:avLst/>
            <a:gdLst/>
            <a:ahLst/>
            <a:rect l="l" t="t" r="r" b="b"/>
            <a:pathLst>
              <a:path w="124" h="165">
                <a:moveTo>
                  <a:pt x="0" y="0"/>
                </a:moveTo>
                <a:lnTo>
                  <a:pt x="61" y="0"/>
                </a:lnTo>
                <a:lnTo>
                  <a:pt x="69" y="0"/>
                </a:lnTo>
                <a:lnTo>
                  <a:pt x="80" y="0"/>
                </a:lnTo>
                <a:lnTo>
                  <a:pt x="88" y="0"/>
                </a:lnTo>
                <a:lnTo>
                  <a:pt x="94" y="3"/>
                </a:lnTo>
                <a:lnTo>
                  <a:pt x="108" y="6"/>
                </a:lnTo>
                <a:lnTo>
                  <a:pt x="113" y="11"/>
                </a:lnTo>
                <a:lnTo>
                  <a:pt x="118" y="17"/>
                </a:lnTo>
                <a:lnTo>
                  <a:pt x="121" y="22"/>
                </a:lnTo>
                <a:lnTo>
                  <a:pt x="124" y="33"/>
                </a:lnTo>
                <a:lnTo>
                  <a:pt x="124" y="47"/>
                </a:lnTo>
                <a:lnTo>
                  <a:pt x="124" y="61"/>
                </a:lnTo>
                <a:lnTo>
                  <a:pt x="124" y="74"/>
                </a:lnTo>
                <a:lnTo>
                  <a:pt x="121" y="85"/>
                </a:lnTo>
                <a:lnTo>
                  <a:pt x="118" y="88"/>
                </a:lnTo>
                <a:lnTo>
                  <a:pt x="113" y="91"/>
                </a:lnTo>
                <a:lnTo>
                  <a:pt x="105" y="94"/>
                </a:lnTo>
                <a:lnTo>
                  <a:pt x="99" y="96"/>
                </a:lnTo>
                <a:lnTo>
                  <a:pt x="91" y="96"/>
                </a:lnTo>
                <a:lnTo>
                  <a:pt x="75" y="99"/>
                </a:lnTo>
                <a:lnTo>
                  <a:pt x="58" y="99"/>
                </a:lnTo>
                <a:lnTo>
                  <a:pt x="58" y="132"/>
                </a:lnTo>
                <a:lnTo>
                  <a:pt x="58" y="165"/>
                </a:lnTo>
                <a:lnTo>
                  <a:pt x="31" y="165"/>
                </a:lnTo>
                <a:lnTo>
                  <a:pt x="0" y="165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58" y="28"/>
                </a:moveTo>
                <a:lnTo>
                  <a:pt x="58" y="69"/>
                </a:lnTo>
                <a:lnTo>
                  <a:pt x="61" y="69"/>
                </a:lnTo>
                <a:lnTo>
                  <a:pt x="64" y="69"/>
                </a:lnTo>
                <a:lnTo>
                  <a:pt x="69" y="69"/>
                </a:lnTo>
                <a:lnTo>
                  <a:pt x="75" y="69"/>
                </a:lnTo>
                <a:lnTo>
                  <a:pt x="77" y="63"/>
                </a:lnTo>
                <a:lnTo>
                  <a:pt x="77" y="55"/>
                </a:lnTo>
                <a:lnTo>
                  <a:pt x="77" y="47"/>
                </a:lnTo>
                <a:lnTo>
                  <a:pt x="77" y="42"/>
                </a:lnTo>
                <a:lnTo>
                  <a:pt x="75" y="36"/>
                </a:lnTo>
                <a:lnTo>
                  <a:pt x="75" y="31"/>
                </a:lnTo>
                <a:lnTo>
                  <a:pt x="69" y="28"/>
                </a:lnTo>
                <a:lnTo>
                  <a:pt x="58" y="28"/>
                </a:lnTo>
                <a:lnTo>
                  <a:pt x="5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79760" y="3379680"/>
            <a:ext cx="204840" cy="270000"/>
          </a:xfrm>
          <a:custGeom>
            <a:avLst/>
            <a:gdLst/>
            <a:ahLst/>
            <a:rect l="l" t="t" r="r" b="b"/>
            <a:pathLst>
              <a:path w="129" h="170">
                <a:moveTo>
                  <a:pt x="118" y="0"/>
                </a:moveTo>
                <a:lnTo>
                  <a:pt x="118" y="25"/>
                </a:lnTo>
                <a:lnTo>
                  <a:pt x="85" y="25"/>
                </a:lnTo>
                <a:lnTo>
                  <a:pt x="52" y="25"/>
                </a:lnTo>
                <a:lnTo>
                  <a:pt x="52" y="42"/>
                </a:lnTo>
                <a:lnTo>
                  <a:pt x="52" y="55"/>
                </a:lnTo>
                <a:lnTo>
                  <a:pt x="58" y="50"/>
                </a:lnTo>
                <a:lnTo>
                  <a:pt x="66" y="47"/>
                </a:lnTo>
                <a:lnTo>
                  <a:pt x="74" y="44"/>
                </a:lnTo>
                <a:lnTo>
                  <a:pt x="85" y="44"/>
                </a:lnTo>
                <a:lnTo>
                  <a:pt x="93" y="44"/>
                </a:lnTo>
                <a:lnTo>
                  <a:pt x="104" y="47"/>
                </a:lnTo>
                <a:lnTo>
                  <a:pt x="113" y="47"/>
                </a:lnTo>
                <a:lnTo>
                  <a:pt x="118" y="53"/>
                </a:lnTo>
                <a:lnTo>
                  <a:pt x="124" y="58"/>
                </a:lnTo>
                <a:lnTo>
                  <a:pt x="126" y="66"/>
                </a:lnTo>
                <a:lnTo>
                  <a:pt x="129" y="77"/>
                </a:lnTo>
                <a:lnTo>
                  <a:pt x="129" y="91"/>
                </a:lnTo>
                <a:lnTo>
                  <a:pt x="129" y="102"/>
                </a:lnTo>
                <a:lnTo>
                  <a:pt x="129" y="113"/>
                </a:lnTo>
                <a:lnTo>
                  <a:pt x="129" y="121"/>
                </a:lnTo>
                <a:lnTo>
                  <a:pt x="129" y="129"/>
                </a:lnTo>
                <a:lnTo>
                  <a:pt x="126" y="140"/>
                </a:lnTo>
                <a:lnTo>
                  <a:pt x="124" y="148"/>
                </a:lnTo>
                <a:lnTo>
                  <a:pt x="118" y="154"/>
                </a:lnTo>
                <a:lnTo>
                  <a:pt x="110" y="159"/>
                </a:lnTo>
                <a:lnTo>
                  <a:pt x="96" y="165"/>
                </a:lnTo>
                <a:lnTo>
                  <a:pt x="91" y="167"/>
                </a:lnTo>
                <a:lnTo>
                  <a:pt x="82" y="167"/>
                </a:lnTo>
                <a:lnTo>
                  <a:pt x="66" y="170"/>
                </a:lnTo>
                <a:lnTo>
                  <a:pt x="47" y="167"/>
                </a:lnTo>
                <a:lnTo>
                  <a:pt x="30" y="162"/>
                </a:lnTo>
                <a:lnTo>
                  <a:pt x="22" y="159"/>
                </a:lnTo>
                <a:lnTo>
                  <a:pt x="17" y="157"/>
                </a:lnTo>
                <a:lnTo>
                  <a:pt x="11" y="154"/>
                </a:lnTo>
                <a:lnTo>
                  <a:pt x="8" y="148"/>
                </a:lnTo>
                <a:lnTo>
                  <a:pt x="3" y="140"/>
                </a:lnTo>
                <a:lnTo>
                  <a:pt x="3" y="135"/>
                </a:lnTo>
                <a:lnTo>
                  <a:pt x="0" y="124"/>
                </a:lnTo>
                <a:lnTo>
                  <a:pt x="0" y="113"/>
                </a:lnTo>
                <a:lnTo>
                  <a:pt x="0" y="110"/>
                </a:lnTo>
                <a:lnTo>
                  <a:pt x="0" y="105"/>
                </a:lnTo>
                <a:lnTo>
                  <a:pt x="28" y="105"/>
                </a:lnTo>
                <a:lnTo>
                  <a:pt x="55" y="105"/>
                </a:lnTo>
                <a:lnTo>
                  <a:pt x="55" y="110"/>
                </a:lnTo>
                <a:lnTo>
                  <a:pt x="55" y="113"/>
                </a:lnTo>
                <a:lnTo>
                  <a:pt x="55" y="129"/>
                </a:lnTo>
                <a:lnTo>
                  <a:pt x="55" y="137"/>
                </a:lnTo>
                <a:lnTo>
                  <a:pt x="58" y="140"/>
                </a:lnTo>
                <a:lnTo>
                  <a:pt x="58" y="143"/>
                </a:lnTo>
                <a:lnTo>
                  <a:pt x="66" y="143"/>
                </a:lnTo>
                <a:lnTo>
                  <a:pt x="71" y="143"/>
                </a:lnTo>
                <a:lnTo>
                  <a:pt x="74" y="140"/>
                </a:lnTo>
                <a:lnTo>
                  <a:pt x="74" y="140"/>
                </a:lnTo>
                <a:lnTo>
                  <a:pt x="74" y="137"/>
                </a:lnTo>
                <a:lnTo>
                  <a:pt x="74" y="135"/>
                </a:lnTo>
                <a:lnTo>
                  <a:pt x="74" y="132"/>
                </a:lnTo>
                <a:lnTo>
                  <a:pt x="74" y="126"/>
                </a:lnTo>
                <a:lnTo>
                  <a:pt x="74" y="118"/>
                </a:lnTo>
                <a:lnTo>
                  <a:pt x="74" y="102"/>
                </a:lnTo>
                <a:lnTo>
                  <a:pt x="74" y="85"/>
                </a:lnTo>
                <a:lnTo>
                  <a:pt x="74" y="77"/>
                </a:lnTo>
                <a:lnTo>
                  <a:pt x="74" y="72"/>
                </a:lnTo>
                <a:lnTo>
                  <a:pt x="69" y="69"/>
                </a:lnTo>
                <a:lnTo>
                  <a:pt x="63" y="69"/>
                </a:lnTo>
                <a:lnTo>
                  <a:pt x="60" y="69"/>
                </a:lnTo>
                <a:lnTo>
                  <a:pt x="58" y="69"/>
                </a:lnTo>
                <a:lnTo>
                  <a:pt x="55" y="72"/>
                </a:lnTo>
                <a:lnTo>
                  <a:pt x="55" y="74"/>
                </a:lnTo>
                <a:lnTo>
                  <a:pt x="55" y="77"/>
                </a:lnTo>
                <a:lnTo>
                  <a:pt x="55" y="83"/>
                </a:lnTo>
                <a:lnTo>
                  <a:pt x="0" y="83"/>
                </a:lnTo>
                <a:lnTo>
                  <a:pt x="3" y="42"/>
                </a:lnTo>
                <a:lnTo>
                  <a:pt x="3" y="0"/>
                </a:lnTo>
                <a:lnTo>
                  <a:pt x="11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67520" y="2394000"/>
            <a:ext cx="1538280" cy="6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23200" y="2468520"/>
            <a:ext cx="9853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utur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412840" y="2468520"/>
            <a:ext cx="93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687840" y="1628280"/>
            <a:ext cx="4146480" cy="122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87840" y="2854440"/>
            <a:ext cx="4298760" cy="10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52280" y="152280"/>
            <a:ext cx="8839440" cy="5928480"/>
            <a:chOff x="152280" y="152280"/>
            <a:chExt cx="8839440" cy="5928480"/>
          </a:xfrm>
        </p:grpSpPr>
        <p:sp>
          <p:nvSpPr>
            <p:cNvPr id="194" name=""/>
            <p:cNvSpPr/>
            <p:nvPr/>
          </p:nvSpPr>
          <p:spPr>
            <a:xfrm>
              <a:off x="304920" y="1981080"/>
              <a:ext cx="2346120" cy="1051560"/>
            </a:xfrm>
            <a:prstGeom prst="wedgeRoundRectCallout">
              <a:avLst>
                <a:gd name="adj1" fmla="val 83212"/>
                <a:gd name="adj2" fmla="val -30324"/>
                <a:gd name="adj3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afiar as regra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incentivando as mudanças, envolvendo seus colaborador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6645240" y="152280"/>
              <a:ext cx="2346480" cy="788760"/>
            </a:xfrm>
            <a:prstGeom prst="wedgeRoundRectCallout">
              <a:avLst>
                <a:gd name="adj1" fmla="val 86384"/>
                <a:gd name="adj2" fmla="val 177916"/>
                <a:gd name="adj3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spirar uma visão de futuro compartilhada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com a equi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2280" y="4648320"/>
              <a:ext cx="2346480" cy="1051560"/>
            </a:xfrm>
            <a:prstGeom prst="wedgeRoundRectCallout">
              <a:avLst>
                <a:gd name="adj1" fmla="val 62439"/>
                <a:gd name="adj2" fmla="val -93152"/>
                <a:gd name="adj3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ermitir que os outros ajam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eitando e estimulando iniciativas e ações espontâne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5104800" y="5029200"/>
              <a:ext cx="2346120" cy="1051560"/>
            </a:xfrm>
            <a:prstGeom prst="wedgeRoundRectCallout">
              <a:avLst>
                <a:gd name="adj1" fmla="val 70277"/>
                <a:gd name="adj2" fmla="val -175731"/>
                <a:gd name="adj3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ncorajar o coração,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tivando a equipe a enfrentar obstáculos e desafios do dia-a-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6629400" y="3809880"/>
              <a:ext cx="2346480" cy="1051560"/>
            </a:xfrm>
            <a:prstGeom prst="wedgeRoundRectCallout">
              <a:avLst>
                <a:gd name="adj1" fmla="val 53435"/>
                <a:gd name="adj2" fmla="val -101879"/>
                <a:gd name="adj3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pontar o caminho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a ser seguido para melhorar desempenho e relacionamento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>
            <a:hlinkClick r:id="" action="ppaction://hlinkshowjump?jump=previousslide"/>
          </p:cNvPr>
          <p:cNvSpPr/>
          <p:nvPr/>
        </p:nvSpPr>
        <p:spPr>
          <a:xfrm rot="16200000">
            <a:off x="8496360" y="514332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9294"/>
                </a:moveTo>
                <a:lnTo>
                  <a:pt x="7301" y="9294"/>
                </a:lnTo>
                <a:lnTo>
                  <a:pt x="7301" y="14629"/>
                </a:lnTo>
                <a:cubicBezTo>
                  <a:pt x="7301" y="15552"/>
                  <a:pt x="8102" y="16283"/>
                  <a:pt x="9138" y="16283"/>
                </a:cubicBezTo>
                <a:lnTo>
                  <a:pt x="10800" y="16283"/>
                </a:lnTo>
                <a:cubicBezTo>
                  <a:pt x="11836" y="16283"/>
                  <a:pt x="12636" y="15552"/>
                  <a:pt x="12636" y="14629"/>
                </a:cubicBezTo>
                <a:lnTo>
                  <a:pt x="12636" y="9294"/>
                </a:lnTo>
                <a:lnTo>
                  <a:pt x="10800" y="9294"/>
                </a:lnTo>
                <a:lnTo>
                  <a:pt x="14308" y="5786"/>
                </a:lnTo>
                <a:lnTo>
                  <a:pt x="17981" y="9294"/>
                </a:lnTo>
                <a:lnTo>
                  <a:pt x="16144" y="9294"/>
                </a:lnTo>
                <a:lnTo>
                  <a:pt x="16144" y="14629"/>
                </a:lnTo>
                <a:cubicBezTo>
                  <a:pt x="16144" y="17397"/>
                  <a:pt x="13568" y="19956"/>
                  <a:pt x="10800" y="19956"/>
                </a:cubicBezTo>
                <a:lnTo>
                  <a:pt x="9138" y="19956"/>
                </a:lnTo>
                <a:cubicBezTo>
                  <a:pt x="6370" y="19956"/>
                  <a:pt x="3794" y="17397"/>
                  <a:pt x="3794" y="14629"/>
                </a:cubicBezTo>
                <a:close/>
              </a:path>
            </a:pathLst>
          </a:cu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15D51-08B0-4127-A28E-A01700BE15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visão Bibliográf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452600" y="1600200"/>
          <a:ext cx="6240600" cy="140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600200"/>
                    <a:ext cx="624060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452600" y="3276720"/>
          <a:ext cx="6240600" cy="857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2600" y="3276720"/>
                    <a:ext cx="62406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452600" y="4429080"/>
          <a:ext cx="6240600" cy="1209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52600" y="4429080"/>
                    <a:ext cx="624060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0756A-67CC-4D3C-9F18-EF87E8DF9F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visão Bibliográf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52600" y="2209680"/>
          <a:ext cx="6240600" cy="80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2209680"/>
                    <a:ext cx="62406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447920" y="3286080"/>
          <a:ext cx="6240240" cy="174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286080"/>
                    <a:ext cx="624024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CD0A1-5C14-4775-B745-840FF1C0F7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todolog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59336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e trabalho de dissertação pode ser classificado quanto aos fins como pesqui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licada: porque se pretende que os resultados sejam utilizados na solução de problemas da rea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tiva: porque aborda descrição, registro, análises e interpretação do problema, objetivando seu funcionamento no pres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857E4-1392-4973-A827-8EC89B8E07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todolog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336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to aos meios, pode ser classificada como pesquisa de camp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rque tem o objetivo de obter informações e conhecimentos acerca do problema para o qual se procura uma resposta, via coleta e análise de d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740DE-6D9B-4719-B20B-9A318347D1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todolog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59336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método de abordagem utilizado para a realização da pesquisa foi o Hipotético-Dedutivo de Popper, que se inicia pela percepção de uma lacuna nos conhecimentos, acerca da qual se formulam e se testam hipóte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investigação se deu através da aplicação de questionários elaborados por Parasuraman et al. e Kouzes-Posner de análises qualitativas e quantitativas e da tabulação de seus result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9BBAF-3CFE-426A-8D27-1855F884D4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905120" y="1447920"/>
            <a:ext cx="5029200" cy="5337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todologia: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Aplicação do método Hipotético-Dedutivo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626920" y="1523880"/>
            <a:ext cx="3688200" cy="5186160"/>
            <a:chOff x="2626920" y="1523880"/>
            <a:chExt cx="3688200" cy="5186160"/>
          </a:xfrm>
        </p:grpSpPr>
        <p:grpSp>
          <p:nvGrpSpPr>
            <p:cNvPr id="221" name=""/>
            <p:cNvGrpSpPr/>
            <p:nvPr/>
          </p:nvGrpSpPr>
          <p:grpSpPr>
            <a:xfrm>
              <a:off x="3856320" y="5614200"/>
              <a:ext cx="1159920" cy="231120"/>
              <a:chOff x="3856320" y="5614200"/>
              <a:chExt cx="1159920" cy="231120"/>
            </a:xfrm>
          </p:grpSpPr>
          <p:sp>
            <p:nvSpPr>
              <p:cNvPr id="222" name=""/>
              <p:cNvSpPr/>
              <p:nvPr/>
            </p:nvSpPr>
            <p:spPr>
              <a:xfrm flipH="1">
                <a:off x="3856320" y="5614200"/>
                <a:ext cx="55836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415040" y="5614200"/>
                <a:ext cx="6012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2879640" y="1523880"/>
              <a:ext cx="3113640" cy="50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Conhecimento Prévio e Teorias Existente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Times New Roman"/>
                </a:rPr>
                <a:t>Modelo conceitual de Qualidade em Serviços de </a:t>
              </a:r>
              <a:r>
                <a:rPr b="1" lang="en-US" sz="400" spc="-1" strike="noStrike">
                  <a:solidFill>
                    <a:srgbClr val="000000"/>
                  </a:solidFill>
                  <a:latin typeface="Times New Roman"/>
                </a:rPr>
                <a:t>PARASURAMAN,</a:t>
              </a:r>
              <a:r>
                <a:rPr b="0" lang="en-US" sz="400" spc="-1" strike="noStrike">
                  <a:solidFill>
                    <a:srgbClr val="000000"/>
                  </a:solidFill>
                  <a:latin typeface="Times New Roman"/>
                </a:rPr>
                <a:t> A.;</a:t>
              </a:r>
              <a:r>
                <a:rPr b="1" lang="en-US" sz="400" spc="-1" strike="noStrike">
                  <a:solidFill>
                    <a:srgbClr val="000000"/>
                  </a:solidFill>
                  <a:latin typeface="Times New Roman"/>
                </a:rPr>
                <a:t> ZEITHAML,</a:t>
              </a:r>
              <a:r>
                <a:rPr b="0" lang="en-US" sz="400" spc="-1" strike="noStrike">
                  <a:solidFill>
                    <a:srgbClr val="000000"/>
                  </a:solidFill>
                  <a:latin typeface="Times New Roman"/>
                </a:rPr>
                <a:t> Valarie A.; </a:t>
              </a:r>
              <a:r>
                <a:rPr b="1" lang="en-US" sz="400" spc="-1" strike="noStrike">
                  <a:solidFill>
                    <a:srgbClr val="000000"/>
                  </a:solidFill>
                  <a:latin typeface="Times New Roman"/>
                </a:rPr>
                <a:t>BERRY</a:t>
              </a:r>
              <a:r>
                <a:rPr b="0" lang="en-US" sz="400" spc="-1" strike="noStrike">
                  <a:solidFill>
                    <a:srgbClr val="000000"/>
                  </a:solidFill>
                  <a:latin typeface="Times New Roman"/>
                </a:rPr>
                <a:t> (1985)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Times New Roman"/>
                </a:rPr>
                <a:t>Instrumento de Medida de Percepção do Cliente sobre a Qualidade em Serviços, SERVQUAL, de </a:t>
              </a:r>
              <a:r>
                <a:rPr b="1" lang="en-US" sz="400" spc="-1" strike="noStrike">
                  <a:solidFill>
                    <a:srgbClr val="000000"/>
                  </a:solidFill>
                  <a:latin typeface="Times New Roman"/>
                </a:rPr>
                <a:t>PARASURAMAN,</a:t>
              </a:r>
              <a:r>
                <a:rPr b="0" lang="en-US" sz="400" spc="-1" strike="noStrike">
                  <a:solidFill>
                    <a:srgbClr val="000000"/>
                  </a:solidFill>
                  <a:latin typeface="Times New Roman"/>
                </a:rPr>
                <a:t> A.;</a:t>
              </a:r>
              <a:r>
                <a:rPr b="1" lang="en-US" sz="400" spc="-1" strike="noStrike">
                  <a:solidFill>
                    <a:srgbClr val="000000"/>
                  </a:solidFill>
                  <a:latin typeface="Times New Roman"/>
                </a:rPr>
                <a:t> ZEITHAML,</a:t>
              </a:r>
              <a:r>
                <a:rPr b="0" lang="en-US" sz="400" spc="-1" strike="noStrike">
                  <a:solidFill>
                    <a:srgbClr val="000000"/>
                  </a:solidFill>
                  <a:latin typeface="Times New Roman"/>
                </a:rPr>
                <a:t> Valarie A.; </a:t>
              </a:r>
              <a:r>
                <a:rPr b="1" lang="en-US" sz="400" spc="-1" strike="noStrike">
                  <a:solidFill>
                    <a:srgbClr val="000000"/>
                  </a:solidFill>
                  <a:latin typeface="Times New Roman"/>
                </a:rPr>
                <a:t>BERRY</a:t>
              </a:r>
              <a:r>
                <a:rPr b="0" lang="en-US" sz="400" spc="-1" strike="noStrike">
                  <a:solidFill>
                    <a:srgbClr val="000000"/>
                  </a:solidFill>
                  <a:latin typeface="Times New Roman"/>
                </a:rPr>
                <a:t> (1988, 1990, 1994)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Modelo de liderança e seu instrumento para avaliar as práticas de liderança - LPI, Leadership Practices Inventory - de </a:t>
              </a:r>
              <a:r>
                <a:rPr b="1" lang="pt-BR" sz="400" spc="-1" strike="noStrike">
                  <a:solidFill>
                    <a:srgbClr val="000000"/>
                  </a:solidFill>
                  <a:latin typeface="Times New Roman"/>
                </a:rPr>
                <a:t>KOUZES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, James M.; </a:t>
              </a:r>
              <a:r>
                <a:rPr b="1" lang="pt-BR" sz="400" spc="-1" strike="noStrike">
                  <a:solidFill>
                    <a:srgbClr val="000000"/>
                  </a:solidFill>
                  <a:latin typeface="Times New Roman"/>
                </a:rPr>
                <a:t>POSNER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, Berry Z. (1997)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80720" y="5123520"/>
              <a:ext cx="3114000" cy="62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Avaliação das Hipótese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" spc="-1" strike="noStrike">
                  <a:solidFill>
                    <a:srgbClr val="000000"/>
                  </a:solidFill>
                  <a:latin typeface="Times New Roman"/>
                </a:rPr>
                <a:t>Hipótese 1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: será testada H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pt-BR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lang="pt-BR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e 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pt-BR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 Inexistência do hiato 5 em oposição a H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pt-BR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lang="pt-BR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e </a:t>
              </a:r>
              <a:r>
                <a:rPr b="0" lang="pt-BR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0 = hiato 5, com </a:t>
              </a:r>
              <a:r>
                <a:rPr b="0" lang="pt-BR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 = 0,05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" spc="-1" strike="noStrike">
                  <a:solidFill>
                    <a:srgbClr val="000000"/>
                  </a:solidFill>
                  <a:latin typeface="Times New Roman"/>
                </a:rPr>
                <a:t>Hipótese 2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: será testada H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pt-BR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pp 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lang="pt-BR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e 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pt-BR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 Inexistência do hiato 1 em oposição a H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pt-BR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pp 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lang="pt-BR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e </a:t>
              </a:r>
              <a:r>
                <a:rPr b="0" lang="pt-BR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0 = hiato 1, com </a:t>
              </a:r>
              <a:r>
                <a:rPr b="0" lang="pt-BR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 = 0,05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" spc="-1" strike="noStrike">
                  <a:solidFill>
                    <a:srgbClr val="000000"/>
                  </a:solidFill>
                  <a:latin typeface="Times New Roman"/>
                </a:rPr>
                <a:t>Hipótese 3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: será testada H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pt-BR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ip 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lang="pt-BR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ic 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pt-BR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 Inexistência de diferenças entre os pontos de vista de clientes e prestadores do serviço quanto à importância relativa das dimensões da qualidade em oposição a H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pt-BR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ip 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lang="pt-BR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ic </a:t>
              </a:r>
              <a:r>
                <a:rPr b="0" lang="pt-BR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pt-BR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 Existência dessas diferença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" spc="-1" strike="noStrike">
                  <a:solidFill>
                    <a:srgbClr val="000000"/>
                  </a:solidFill>
                  <a:latin typeface="Times New Roman"/>
                </a:rPr>
                <a:t>Hipótese 4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:  será testado se </a:t>
              </a:r>
              <a:r>
                <a:rPr b="0" lang="pt-BR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 = Cov (x, y) / (</a:t>
              </a:r>
              <a:r>
                <a:rPr b="0" lang="pt-BR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r>
                <a:rPr b="0" lang="pt-BR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) &gt; 0,7, onde 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pt-BR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 -1 e Cov (x, y) = (1 / n) * </a:t>
              </a:r>
              <a:r>
                <a:rPr b="0" lang="pt-BR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 (x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lang="pt-BR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) * (y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lang="pt-BR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),</a:t>
              </a:r>
              <a:br>
                <a:rPr sz="400"/>
              </a:b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 i variando de 1 a 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63680" y="5845680"/>
              <a:ext cx="1928160" cy="22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orroboração (Não Rejeição)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 critério para corroboração será o oposto ao adotado na refutaçã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90800" y="5845680"/>
              <a:ext cx="1096920" cy="62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Refutação (Rejeição)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" spc="-1" strike="noStrike">
                  <a:solidFill>
                    <a:srgbClr val="000000"/>
                  </a:solidFill>
                  <a:latin typeface="Times New Roman"/>
                </a:rPr>
                <a:t>H1, H2 e H3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 serão rejeitadas se o valor de </a:t>
              </a:r>
              <a:r>
                <a:rPr b="0" lang="pt-BR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</a:t>
              </a:r>
              <a:r>
                <a:rPr b="0" lang="pt-BR" sz="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 for tal que a probabilidade associada à sua ocorrência, sob H</a:t>
              </a:r>
              <a:r>
                <a:rPr b="0" lang="pt-BR" sz="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, para gl = 4, seja superior a </a:t>
              </a:r>
              <a:r>
                <a:rPr b="0" lang="pt-BR" sz="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 = 0,05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" spc="-1" strike="noStrike">
                  <a:solidFill>
                    <a:srgbClr val="000000"/>
                  </a:solidFill>
                  <a:latin typeface="Times New Roman"/>
                </a:rPr>
                <a:t>H4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 será rejeitada se o coeficiente de correlação for inferior a 0,7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64400" y="6133680"/>
              <a:ext cx="1928160" cy="21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Nova Teori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partir da análise dos dados poderá ou não ser elaborada nova teori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64400" y="6423840"/>
              <a:ext cx="1928160" cy="28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Novo Problem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erão apontadas as lacunas, contradições ou problemas encontrados e sugeridos caminhos para sua pesquis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79640" y="4073760"/>
              <a:ext cx="311364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Testagem </a:t>
              </a:r>
              <a:r>
                <a:rPr b="0" lang="pt-BR" sz="500" spc="-1" strike="noStrike">
                  <a:solidFill>
                    <a:srgbClr val="000000"/>
                  </a:solidFill>
                  <a:latin typeface="Times New Roman"/>
                </a:rPr>
                <a:t>- Os instrumentos de medida foram questionário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" spc="-1" strike="noStrike">
                  <a:solidFill>
                    <a:srgbClr val="000000"/>
                  </a:solidFill>
                  <a:latin typeface="Times New Roman"/>
                </a:rPr>
                <a:t>Hipóteses 1, 2 e 3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: SERVQUAL (1990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" spc="-1" strike="noStrike">
                  <a:solidFill>
                    <a:srgbClr val="000000"/>
                  </a:solidFill>
                  <a:latin typeface="Times New Roman"/>
                </a:rPr>
                <a:t>Hipótese 4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: LPI (1997) e duas perguntas fechadas relativas à atenção dispensada (em termos de tempo de seu pessoal e recursos financeiros) pelos executivos das organizações de call center em relação aos serviços de treinamento em vendas prestados para testar correlação (também com a percepção dos executivos quanto à qualidade esperada pelos clientes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80720" y="4525560"/>
              <a:ext cx="3114000" cy="52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Análise dos Resultado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Times New Roman"/>
                </a:rPr>
                <a:t>Nas </a:t>
              </a:r>
              <a:r>
                <a:rPr b="1" lang="pt-BR" sz="500" spc="-1" strike="noStrike">
                  <a:solidFill>
                    <a:srgbClr val="000000"/>
                  </a:solidFill>
                  <a:latin typeface="Times New Roman"/>
                </a:rPr>
                <a:t>Hipóteses 1, 2 e 3</a:t>
              </a:r>
              <a:r>
                <a:rPr b="0" lang="pt-BR" sz="500" spc="-1" strike="noStrike">
                  <a:solidFill>
                    <a:srgbClr val="000000"/>
                  </a:solidFill>
                  <a:latin typeface="Times New Roman"/>
                </a:rPr>
                <a:t>, os dados colhidos através da pesquisa serão analisados com método estatístico não-paramétrico de qui-quadrado com confiança de 95%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Times New Roman"/>
                </a:rPr>
                <a:t>Na </a:t>
              </a:r>
              <a:r>
                <a:rPr b="1" lang="pt-BR" sz="500" spc="-1" strike="noStrike">
                  <a:solidFill>
                    <a:srgbClr val="000000"/>
                  </a:solidFill>
                  <a:latin typeface="Times New Roman"/>
                </a:rPr>
                <a:t>Hipótese 4 </a:t>
              </a:r>
              <a:r>
                <a:rPr b="0" lang="pt-BR" sz="500" spc="-1" strike="noStrike">
                  <a:solidFill>
                    <a:srgbClr val="000000"/>
                  </a:solidFill>
                  <a:latin typeface="Times New Roman"/>
                </a:rPr>
                <a:t>, os dados colhidos através da pesquisa serão analisados com método estatístico não-paramétrico de qui-quadrado com confiança de 95% e com o auxílio do pacote estatístico do Excel, em especial a função de correlação CORREL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2626920" y="2816280"/>
              <a:ext cx="262080" cy="3338640"/>
              <a:chOff x="2626920" y="2816280"/>
              <a:chExt cx="262080" cy="3338640"/>
            </a:xfrm>
          </p:grpSpPr>
          <p:sp>
            <p:nvSpPr>
              <p:cNvPr id="233" name=""/>
              <p:cNvSpPr/>
              <p:nvPr/>
            </p:nvSpPr>
            <p:spPr>
              <a:xfrm flipH="1">
                <a:off x="2626920" y="6147360"/>
                <a:ext cx="248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627280" y="2822400"/>
                <a:ext cx="26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627280" y="2816280"/>
                <a:ext cx="0" cy="333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2879640" y="2504880"/>
              <a:ext cx="3113640" cy="6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Hipótese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00" spc="-1" strike="noStrike">
                  <a:solidFill>
                    <a:srgbClr val="000000"/>
                  </a:solidFill>
                  <a:latin typeface="Times New Roman"/>
                </a:rPr>
                <a:t>Hipótese 1</a:t>
              </a:r>
              <a:r>
                <a:rPr b="0" lang="pt-BR" sz="500" spc="-1" strike="noStrike">
                  <a:solidFill>
                    <a:srgbClr val="000000"/>
                  </a:solidFill>
                  <a:latin typeface="Times New Roman"/>
                </a:rPr>
                <a:t>: Existem diferenças entre as percepções e as expectativas que os clientes das organizações prestadoras 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de serviços de call center têm da qualidade dos serviços de treinamento em vendas. </a:t>
              </a:r>
              <a:r>
                <a:rPr b="1" lang="pt-BR" sz="400" spc="-1" strike="noStrike">
                  <a:solidFill>
                    <a:srgbClr val="000000"/>
                  </a:solidFill>
                  <a:latin typeface="Times New Roman"/>
                </a:rPr>
                <a:t>Hipótese 2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: Existem diferenças entre as expectativas que os clientes têm da qualidade dos serviços de treinamento em vendas e as percepções que as empresas de call center têm dessas expectativas. </a:t>
              </a:r>
              <a:r>
                <a:rPr b="1" lang="pt-BR" sz="400" spc="-1" strike="noStrike">
                  <a:solidFill>
                    <a:srgbClr val="000000"/>
                  </a:solidFill>
                  <a:latin typeface="Times New Roman"/>
                </a:rPr>
                <a:t>Hipótese 3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: Existem diferenças entre o ponto de vista das empresas de call center e o de seus clientes quanto à importância relativa de cada uma das dimensões de avaliação da qualidade dos serviços de treinamento em vendas. </a:t>
              </a:r>
              <a:r>
                <a:rPr b="1" lang="pt-BR" sz="400" spc="-1" strike="noStrike">
                  <a:solidFill>
                    <a:srgbClr val="000000"/>
                  </a:solidFill>
                  <a:latin typeface="Times New Roman"/>
                </a:rPr>
                <a:t>Hipótese 4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: As práticas de liderança dos executivos das organi zações prestadoras de serviços de call center podem ser relacionadas com a qualidade percebida pelos clientes em relação aos serviços de treinamento em vendas prestados e com a atenção a eles dispensad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79640" y="2113200"/>
              <a:ext cx="3113640" cy="32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Problem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00" spc="-1" strike="noStrike">
                  <a:solidFill>
                    <a:srgbClr val="000000"/>
                  </a:solidFill>
                  <a:latin typeface="Times New Roman"/>
                </a:rPr>
                <a:t>Os serviços de treinamento em vendas disponibilizados pelas organizações prestadoras de serviços de call center estão satisfazendo as expectativas dos clientes?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6001560" y="2860200"/>
              <a:ext cx="262080" cy="1405440"/>
              <a:chOff x="6001560" y="2860200"/>
              <a:chExt cx="262080" cy="1405440"/>
            </a:xfrm>
          </p:grpSpPr>
          <p:sp>
            <p:nvSpPr>
              <p:cNvPr id="239" name=""/>
              <p:cNvSpPr/>
              <p:nvPr/>
            </p:nvSpPr>
            <p:spPr>
              <a:xfrm>
                <a:off x="6014880" y="2863080"/>
                <a:ext cx="248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6001560" y="4263120"/>
                <a:ext cx="26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6263280" y="2860200"/>
                <a:ext cx="0" cy="140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6053040" y="2288880"/>
              <a:ext cx="262080" cy="4304880"/>
              <a:chOff x="6053040" y="2288880"/>
              <a:chExt cx="262080" cy="4304880"/>
            </a:xfrm>
          </p:grpSpPr>
          <p:sp>
            <p:nvSpPr>
              <p:cNvPr id="243" name=""/>
              <p:cNvSpPr/>
              <p:nvPr/>
            </p:nvSpPr>
            <p:spPr>
              <a:xfrm>
                <a:off x="6066360" y="6584040"/>
                <a:ext cx="248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6053040" y="2296800"/>
                <a:ext cx="26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314760" y="2288880"/>
                <a:ext cx="0" cy="430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2879640" y="3255480"/>
              <a:ext cx="3113640" cy="74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Técnicas de Falseabilidad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Rejeitar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400" spc="-1" strike="noStrike">
                  <a:solidFill>
                    <a:srgbClr val="000000"/>
                  </a:solidFill>
                  <a:latin typeface="Times New Roman"/>
                </a:rPr>
                <a:t>Hipótese 1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: Não existem diferenças entre as percepções e as expectativas que os clientes das organizações prestadoras de serviços de call center têm da qualidade dos serviços de treinamento em vendas, i.e., o cliente percebe qualidade no serviço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Rejeitar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400" spc="-1" strike="noStrike">
                  <a:solidFill>
                    <a:srgbClr val="000000"/>
                  </a:solidFill>
                  <a:latin typeface="Times New Roman"/>
                </a:rPr>
                <a:t>Hipótese 2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: Não existem diferenças entre as expectativas que os clientes têm da qualidade dos serviços de treinamento em vendas e as percepções que as empresas de call center têm dessas expectativas, i.e., estas conhecem as expectativas dos clientes. Rejeitar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400" spc="-1" strike="noStrike">
                  <a:solidFill>
                    <a:srgbClr val="000000"/>
                  </a:solidFill>
                  <a:latin typeface="Times New Roman"/>
                </a:rPr>
                <a:t>Hipótese 3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: Não existem diferenças entre o ponto de vista das empresas de call center e o de seus clientes quanto à importância relativa de cada uma das dimensões de avaliação da qualidade dos serviços de treinamento em vendas. Rejeitar</a:t>
              </a: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400" spc="-1" strike="noStrike">
                  <a:solidFill>
                    <a:srgbClr val="000000"/>
                  </a:solidFill>
                  <a:latin typeface="Times New Roman"/>
                </a:rPr>
                <a:t>Hipótese 4</a:t>
              </a:r>
              <a:r>
                <a:rPr b="0" lang="pt-BR" sz="400" spc="-1" strike="noStrike">
                  <a:solidFill>
                    <a:srgbClr val="000000"/>
                  </a:solidFill>
                  <a:latin typeface="Times New Roman"/>
                </a:rPr>
                <a:t>: As práticas de liderança dos executivos das organizações prestadoras de serviços de call center não podem ser relacionadas com a qualidade percebida pelos clientes em relação aos serviços de treinamento em vendas prestados ou com a atenção a eles dispensad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8B45D-90EB-4705-B2A1-98D0FDC511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pulação e Amostr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336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mpresas alvo da pesquisa: organizações prestadoras de serviços de call c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opulação: as grandes organizações de call center (as 10 maio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mostra: 7 de 10, sendo presentes no Rio de Janeiro e em São Paulo; e seus clientes de Telecom (5 de 7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0BB64-1FC1-45EE-B492-854D7A11BC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rticiparam desta Pesquis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409720" y="1467000"/>
            <a:ext cx="34038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FONICA (2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MAR/O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LI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480" y="1467000"/>
            <a:ext cx="47246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tadores dos Serviç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ENTO (RJ e S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FUTU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IA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19D5E-4354-4D4B-90EE-E189F0BDED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rcRect l="3468" t="14158" r="3468" b="21237"/>
          <a:stretch/>
        </p:blipFill>
        <p:spPr>
          <a:xfrm>
            <a:off x="304920" y="4381560"/>
            <a:ext cx="4518000" cy="1541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rcRect l="12484" t="15574" r="12484" b="1416"/>
          <a:stretch/>
        </p:blipFill>
        <p:spPr>
          <a:xfrm>
            <a:off x="5486400" y="2209680"/>
            <a:ext cx="3514680" cy="19051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rcRect l="1387" t="14158" r="1387" b="1416"/>
          <a:stretch/>
        </p:blipFill>
        <p:spPr>
          <a:xfrm>
            <a:off x="762120" y="2362320"/>
            <a:ext cx="4012920" cy="17031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rticiparam desta Pesquis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09720" y="1467000"/>
            <a:ext cx="34038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Setor de atu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09480" y="1467000"/>
            <a:ext cx="47246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estadores dos Serviç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Setor de atu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rcRect l="694" t="16990" r="2774" b="19822"/>
          <a:stretch/>
        </p:blipFill>
        <p:spPr>
          <a:xfrm>
            <a:off x="4800600" y="4495680"/>
            <a:ext cx="4343400" cy="1395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CB759-2D25-4AEE-8AA6-4A6F0F7336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445400" y="2438280"/>
            <a:ext cx="6553440" cy="2633400"/>
            <a:chOff x="1445400" y="2438280"/>
            <a:chExt cx="6553440" cy="2633400"/>
          </a:xfrm>
        </p:grpSpPr>
        <p:sp>
          <p:nvSpPr>
            <p:cNvPr id="98" name=""/>
            <p:cNvSpPr/>
            <p:nvPr/>
          </p:nvSpPr>
          <p:spPr>
            <a:xfrm>
              <a:off x="2018520" y="3856320"/>
              <a:ext cx="1688400" cy="1215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Organização de Serviços de Telecom de G.</a:t>
              </a:r>
              <a:r>
                <a:rPr b="1" lang="pt-BR" sz="1800" spc="-1" strike="noStrike" baseline="30000">
                  <a:solidFill>
                    <a:srgbClr val="000000"/>
                  </a:solidFill>
                  <a:latin typeface="Arial"/>
                </a:rPr>
                <a:t>de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Por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706920" y="4527720"/>
              <a:ext cx="2566080" cy="5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45400" y="3205080"/>
              <a:ext cx="128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62720" y="3045960"/>
              <a:ext cx="0" cy="81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19680" y="2438280"/>
              <a:ext cx="1485720" cy="6076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dade Percebi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26480" y="3856320"/>
              <a:ext cx="1688400" cy="1215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Organização de Serviços de Call Center de G.</a:t>
              </a:r>
              <a:r>
                <a:rPr b="1" lang="pt-BR" sz="1800" spc="-1" strike="noStrike" baseline="30000">
                  <a:solidFill>
                    <a:srgbClr val="000000"/>
                  </a:solidFill>
                  <a:latin typeface="Arial"/>
                </a:rPr>
                <a:t>de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Por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70680" y="3045960"/>
              <a:ext cx="0" cy="81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27640" y="2438280"/>
              <a:ext cx="1485360" cy="6076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deranç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60960" y="3205080"/>
              <a:ext cx="193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KOUZES-POS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 Problem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320" y="1257480"/>
            <a:ext cx="89913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Os serviços de treinamento em vendas disponibilizados pelas organizações prestadoras de serviços de call center estão satisfazendo as expectativas dos client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ctr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roblema inserido na pesquisa Fatores Humanos e Tecnológicos da Competitividade, liderada na Universidade Federal Fluminense por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Heitor Quintella, a partir de 199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6FDF9-833A-47D5-8271-2E0DFBCB3B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rcRect l="19419" t="15574" r="16645" b="14158"/>
          <a:stretch/>
        </p:blipFill>
        <p:spPr>
          <a:xfrm>
            <a:off x="2857680" y="2247840"/>
            <a:ext cx="2931840" cy="15829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mostra – formas de respost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301760" y="1447920"/>
            <a:ext cx="6394320" cy="890640"/>
            <a:chOff x="1301760" y="1447920"/>
            <a:chExt cx="6394320" cy="890640"/>
          </a:xfrm>
        </p:grpSpPr>
        <p:sp>
          <p:nvSpPr>
            <p:cNvPr id="262" name=""/>
            <p:cNvSpPr/>
            <p:nvPr/>
          </p:nvSpPr>
          <p:spPr>
            <a:xfrm>
              <a:off x="6245280" y="1937160"/>
              <a:ext cx="14508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cc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98920" y="1937160"/>
              <a:ext cx="17463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cc00"/>
                  </a:solidFill>
                  <a:latin typeface="Tahom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00160" y="1937160"/>
              <a:ext cx="15987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cc00"/>
                  </a:solidFill>
                  <a:latin typeface="Tahom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01760" y="1937160"/>
              <a:ext cx="15984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cc00"/>
                  </a:solidFill>
                  <a:latin typeface="Tahom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45280" y="1447920"/>
              <a:ext cx="14508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E-MA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98920" y="1447920"/>
              <a:ext cx="174636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Entrevis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00160" y="1447920"/>
              <a:ext cx="159876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Respost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01760" y="1447920"/>
              <a:ext cx="1598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Call</a:t>
              </a:r>
              <a:r>
                <a:rPr b="1" lang="pt-BR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Cen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00160" y="1447920"/>
              <a:ext cx="0" cy="89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98920" y="1447920"/>
              <a:ext cx="0" cy="89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45280" y="1447920"/>
              <a:ext cx="0" cy="89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1301760" y="1447920"/>
              <a:ext cx="6227640" cy="890640"/>
              <a:chOff x="1301760" y="1447920"/>
              <a:chExt cx="6227640" cy="890640"/>
            </a:xfrm>
          </p:grpSpPr>
          <p:sp>
            <p:nvSpPr>
              <p:cNvPr id="274" name=""/>
              <p:cNvSpPr/>
              <p:nvPr/>
            </p:nvSpPr>
            <p:spPr>
              <a:xfrm>
                <a:off x="1301760" y="1937160"/>
                <a:ext cx="6227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301760" y="1447920"/>
                <a:ext cx="0" cy="8906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" name=""/>
              <p:cNvGrpSpPr/>
              <p:nvPr/>
            </p:nvGrpSpPr>
            <p:grpSpPr>
              <a:xfrm>
                <a:off x="1301760" y="1447920"/>
                <a:ext cx="6227640" cy="890640"/>
                <a:chOff x="1301760" y="1447920"/>
                <a:chExt cx="6227640" cy="8906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1301760" y="1447920"/>
                  <a:ext cx="622764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301760" y="2338560"/>
                  <a:ext cx="622764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529400" y="1447920"/>
                  <a:ext cx="0" cy="89064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1257480" y="3873600"/>
            <a:ext cx="6438600" cy="890640"/>
            <a:chOff x="1257480" y="3873600"/>
            <a:chExt cx="6438600" cy="890640"/>
          </a:xfrm>
        </p:grpSpPr>
        <p:sp>
          <p:nvSpPr>
            <p:cNvPr id="281" name=""/>
            <p:cNvSpPr/>
            <p:nvPr/>
          </p:nvSpPr>
          <p:spPr>
            <a:xfrm>
              <a:off x="6245280" y="4362840"/>
              <a:ext cx="14508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cc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98920" y="4362840"/>
              <a:ext cx="17463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cc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00520" y="4362840"/>
              <a:ext cx="15984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cc00"/>
                  </a:solidFill>
                  <a:latin typeface="Tahom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01760" y="4362840"/>
              <a:ext cx="15987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cc00"/>
                  </a:solidFill>
                  <a:latin typeface="Tahom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45280" y="3873600"/>
              <a:ext cx="14508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E-MA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98920" y="3873600"/>
              <a:ext cx="174636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Entrevis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00520" y="3873600"/>
              <a:ext cx="1598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Respost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57480" y="3873600"/>
              <a:ext cx="17460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Clien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00520" y="3873600"/>
              <a:ext cx="0" cy="89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98920" y="3873600"/>
              <a:ext cx="0" cy="89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45280" y="3873600"/>
              <a:ext cx="0" cy="89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1301760" y="3873600"/>
              <a:ext cx="6227640" cy="890640"/>
              <a:chOff x="1301760" y="3873600"/>
              <a:chExt cx="6227640" cy="890640"/>
            </a:xfrm>
          </p:grpSpPr>
          <p:sp>
            <p:nvSpPr>
              <p:cNvPr id="293" name=""/>
              <p:cNvSpPr/>
              <p:nvPr/>
            </p:nvSpPr>
            <p:spPr>
              <a:xfrm>
                <a:off x="1301760" y="4362840"/>
                <a:ext cx="6227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01760" y="3873600"/>
                <a:ext cx="0" cy="8906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1301760" y="3873600"/>
                <a:ext cx="6227640" cy="890640"/>
                <a:chOff x="1301760" y="3873600"/>
                <a:chExt cx="6227640" cy="8906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301760" y="3873600"/>
                  <a:ext cx="622764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301760" y="4764240"/>
                  <a:ext cx="622764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529400" y="3873600"/>
                  <a:ext cx="0" cy="89064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299" name="" descr=""/>
          <p:cNvPicPr/>
          <p:nvPr/>
        </p:nvPicPr>
        <p:blipFill>
          <a:blip r:embed="rId2"/>
          <a:srcRect l="17338" t="19822" r="17338" b="16990"/>
          <a:stretch/>
        </p:blipFill>
        <p:spPr>
          <a:xfrm>
            <a:off x="2895480" y="4788000"/>
            <a:ext cx="2855880" cy="134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25AE3-140D-4E97-90C5-535BE18C70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781280" y="1628640"/>
            <a:ext cx="458604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17680" y="1442880"/>
            <a:ext cx="8043480" cy="4043520"/>
            <a:chOff x="517680" y="1442880"/>
            <a:chExt cx="8043480" cy="4043520"/>
          </a:xfrm>
        </p:grpSpPr>
        <p:sp>
          <p:nvSpPr>
            <p:cNvPr id="302" name=""/>
            <p:cNvSpPr/>
            <p:nvPr/>
          </p:nvSpPr>
          <p:spPr>
            <a:xfrm>
              <a:off x="546120" y="1447920"/>
              <a:ext cx="8001000" cy="4038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517680" y="1442880"/>
              <a:ext cx="8043480" cy="4002120"/>
              <a:chOff x="517680" y="1442880"/>
              <a:chExt cx="8043480" cy="400212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523800" y="1446840"/>
                <a:ext cx="8030160" cy="3993480"/>
                <a:chOff x="523800" y="1446840"/>
                <a:chExt cx="8030160" cy="3993480"/>
              </a:xfrm>
            </p:grpSpPr>
            <p:grpSp>
              <p:nvGrpSpPr>
                <p:cNvPr id="305" name=""/>
                <p:cNvGrpSpPr/>
                <p:nvPr/>
              </p:nvGrpSpPr>
              <p:grpSpPr>
                <a:xfrm>
                  <a:off x="523800" y="1446840"/>
                  <a:ext cx="577080" cy="1036080"/>
                  <a:chOff x="523800" y="1446840"/>
                  <a:chExt cx="577080" cy="103608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523800" y="1446840"/>
                    <a:ext cx="577080" cy="103608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523800" y="1446840"/>
                    <a:ext cx="576720" cy="1036080"/>
                    <a:chOff x="523800" y="1446840"/>
                    <a:chExt cx="576720" cy="103608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581760" y="1446840"/>
                      <a:ext cx="460440" cy="1036080"/>
                    </a:xfrm>
                    <a:prstGeom prst="rect">
                      <a:avLst/>
                    </a:pr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523800" y="1446840"/>
                      <a:ext cx="576720" cy="103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1101240" y="1446840"/>
                  <a:ext cx="4444920" cy="1036080"/>
                  <a:chOff x="1101240" y="1446840"/>
                  <a:chExt cx="4444920" cy="103608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1101240" y="1446840"/>
                    <a:ext cx="4444920" cy="103608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1101240" y="1446840"/>
                    <a:ext cx="4444560" cy="1036080"/>
                    <a:chOff x="1101240" y="1446840"/>
                    <a:chExt cx="4444560" cy="103608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1159560" y="1446840"/>
                      <a:ext cx="4327200" cy="1036080"/>
                    </a:xfrm>
                    <a:prstGeom prst="rect">
                      <a:avLst/>
                    </a:pr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 empresa que lhe presta serviços de informátic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1101240" y="1446840"/>
                      <a:ext cx="4444560" cy="103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5546880" y="1446840"/>
                  <a:ext cx="3007080" cy="1036080"/>
                  <a:chOff x="5546880" y="1446840"/>
                  <a:chExt cx="3007080" cy="103608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>
                    <a:off x="5546880" y="1446840"/>
                    <a:ext cx="3007080" cy="103608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7" name=""/>
                  <p:cNvGrpSpPr/>
                  <p:nvPr/>
                </p:nvGrpSpPr>
                <p:grpSpPr>
                  <a:xfrm>
                    <a:off x="5546880" y="1446840"/>
                    <a:ext cx="3006720" cy="1036080"/>
                    <a:chOff x="5546880" y="1446840"/>
                    <a:chExt cx="3006720" cy="1036080"/>
                  </a:xfrm>
                </p:grpSpPr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5604840" y="1446840"/>
                      <a:ext cx="2890440" cy="1036080"/>
                    </a:xfrm>
                    <a:prstGeom prst="rect">
                      <a:avLst/>
                    </a:pr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scordo                        Concor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mente                Total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5546880" y="1446840"/>
                      <a:ext cx="3006720" cy="103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523800" y="2482920"/>
                  <a:ext cx="577080" cy="702000"/>
                  <a:chOff x="523800" y="2482920"/>
                  <a:chExt cx="577080" cy="7020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581760" y="2482920"/>
                    <a:ext cx="46080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P0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523800" y="2482920"/>
                    <a:ext cx="57708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1101240" y="2482920"/>
                  <a:ext cx="4444920" cy="702000"/>
                  <a:chOff x="1101240" y="2482920"/>
                  <a:chExt cx="4444920" cy="7020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>
                    <a:off x="1159560" y="2482920"/>
                    <a:ext cx="432756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ahoma"/>
                      </a:rPr>
                      <a:t>Têm equipamentos (</a:t>
                    </a:r>
                    <a:r>
                      <a:rPr b="0" i="1" lang="en-US" sz="1400" spc="-1" strike="noStrike">
                        <a:solidFill>
                          <a:srgbClr val="000000"/>
                        </a:solidFill>
                        <a:latin typeface="Tahoma"/>
                      </a:rPr>
                      <a:t>hardware e software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ahoma"/>
                      </a:rPr>
                      <a:t>) mais avançados tecnologicamente.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1101240" y="2482920"/>
                    <a:ext cx="44449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5546880" y="2482920"/>
                  <a:ext cx="429120" cy="702000"/>
                  <a:chOff x="5546880" y="2482920"/>
                  <a:chExt cx="429120" cy="70200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>
                    <a:off x="5604840" y="2482920"/>
                    <a:ext cx="31284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5546880" y="2482920"/>
                    <a:ext cx="4291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5976360" y="2482920"/>
                  <a:ext cx="429120" cy="702000"/>
                  <a:chOff x="5976360" y="2482920"/>
                  <a:chExt cx="429120" cy="70200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6034320" y="2482920"/>
                    <a:ext cx="31284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5976360" y="2482920"/>
                    <a:ext cx="4291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6405840" y="2482920"/>
                  <a:ext cx="429480" cy="702000"/>
                  <a:chOff x="6405840" y="2482920"/>
                  <a:chExt cx="429480" cy="70200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6464160" y="2482920"/>
                    <a:ext cx="31248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6405840" y="2482920"/>
                    <a:ext cx="42948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6835680" y="2482920"/>
                  <a:ext cx="429120" cy="702000"/>
                  <a:chOff x="6835680" y="2482920"/>
                  <a:chExt cx="429120" cy="7020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6893640" y="2482920"/>
                    <a:ext cx="31284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6835680" y="2482920"/>
                    <a:ext cx="4291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7265520" y="2482920"/>
                  <a:ext cx="429480" cy="702000"/>
                  <a:chOff x="7265520" y="2482920"/>
                  <a:chExt cx="429480" cy="70200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7323840" y="2482920"/>
                    <a:ext cx="31248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265520" y="2482920"/>
                    <a:ext cx="42948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7695360" y="2482920"/>
                  <a:ext cx="429120" cy="702000"/>
                  <a:chOff x="7695360" y="2482920"/>
                  <a:chExt cx="429120" cy="70200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7753320" y="2482920"/>
                    <a:ext cx="31284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7695360" y="2482920"/>
                    <a:ext cx="4291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8124840" y="2482920"/>
                  <a:ext cx="429120" cy="702000"/>
                  <a:chOff x="8124840" y="2482920"/>
                  <a:chExt cx="429120" cy="70200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8183160" y="2482920"/>
                    <a:ext cx="31248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8124840" y="2482920"/>
                    <a:ext cx="4291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523800" y="3185280"/>
                  <a:ext cx="577080" cy="702000"/>
                  <a:chOff x="523800" y="3185280"/>
                  <a:chExt cx="577080" cy="70200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581760" y="3185280"/>
                    <a:ext cx="46080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P0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523800" y="3185280"/>
                    <a:ext cx="57708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1101240" y="3185280"/>
                  <a:ext cx="4444920" cy="702000"/>
                  <a:chOff x="1101240" y="3185280"/>
                  <a:chExt cx="4444920" cy="70200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1159560" y="3185280"/>
                    <a:ext cx="432756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Têm instalações físicas visualmente atraentes.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1101240" y="3185280"/>
                    <a:ext cx="44449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5546880" y="3185280"/>
                  <a:ext cx="429120" cy="702000"/>
                  <a:chOff x="5546880" y="3185280"/>
                  <a:chExt cx="429120" cy="70200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5604840" y="3185280"/>
                    <a:ext cx="31284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5546880" y="3185280"/>
                    <a:ext cx="4291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5976360" y="3185280"/>
                  <a:ext cx="429120" cy="702000"/>
                  <a:chOff x="5976360" y="3185280"/>
                  <a:chExt cx="429120" cy="70200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6034320" y="3185280"/>
                    <a:ext cx="31284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5976360" y="3185280"/>
                    <a:ext cx="4291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6405840" y="3185280"/>
                  <a:ext cx="429480" cy="702000"/>
                  <a:chOff x="6405840" y="3185280"/>
                  <a:chExt cx="429480" cy="70200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6464160" y="3185280"/>
                    <a:ext cx="31248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6405840" y="3185280"/>
                    <a:ext cx="42948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835680" y="3185280"/>
                  <a:ext cx="429120" cy="702000"/>
                  <a:chOff x="6835680" y="3185280"/>
                  <a:chExt cx="429120" cy="70200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893640" y="3185280"/>
                    <a:ext cx="31284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835680" y="3185280"/>
                    <a:ext cx="4291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7265520" y="3185280"/>
                  <a:ext cx="429480" cy="702000"/>
                  <a:chOff x="7265520" y="3185280"/>
                  <a:chExt cx="429480" cy="70200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7323840" y="3185280"/>
                    <a:ext cx="31248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7265520" y="3185280"/>
                    <a:ext cx="42948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7695360" y="3185280"/>
                  <a:ext cx="429120" cy="702000"/>
                  <a:chOff x="7695360" y="3185280"/>
                  <a:chExt cx="429120" cy="70200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7753320" y="3185280"/>
                    <a:ext cx="31284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7695360" y="3185280"/>
                    <a:ext cx="4291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8124840" y="3185280"/>
                  <a:ext cx="429120" cy="702000"/>
                  <a:chOff x="8124840" y="3185280"/>
                  <a:chExt cx="429120" cy="70200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8183160" y="3185280"/>
                    <a:ext cx="31248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8124840" y="3185280"/>
                    <a:ext cx="4291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523800" y="3887280"/>
                  <a:ext cx="577080" cy="850680"/>
                  <a:chOff x="523800" y="3887280"/>
                  <a:chExt cx="577080" cy="85068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581760" y="3887280"/>
                    <a:ext cx="460800" cy="85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P0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523800" y="3887280"/>
                    <a:ext cx="577080" cy="850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1101240" y="3887280"/>
                  <a:ext cx="4444920" cy="850680"/>
                  <a:chOff x="1101240" y="3887280"/>
                  <a:chExt cx="4444920" cy="85068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>
                    <a:off x="1159560" y="3887280"/>
                    <a:ext cx="4327560" cy="85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Têm empregados de boa aparência – bem vestidos, limpos e organizados.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1101240" y="3887280"/>
                    <a:ext cx="4444920" cy="850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5546880" y="3887280"/>
                  <a:ext cx="429120" cy="850680"/>
                  <a:chOff x="5546880" y="3887280"/>
                  <a:chExt cx="429120" cy="85068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>
                    <a:off x="5604840" y="3887280"/>
                    <a:ext cx="312840" cy="85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5546880" y="3887280"/>
                    <a:ext cx="429120" cy="850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5976360" y="3887280"/>
                  <a:ext cx="429120" cy="850680"/>
                  <a:chOff x="5976360" y="3887280"/>
                  <a:chExt cx="429120" cy="85068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6034320" y="3887280"/>
                    <a:ext cx="312840" cy="85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5976360" y="3887280"/>
                    <a:ext cx="429120" cy="850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6405840" y="3887280"/>
                  <a:ext cx="429480" cy="850680"/>
                  <a:chOff x="6405840" y="3887280"/>
                  <a:chExt cx="429480" cy="85068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>
                    <a:off x="6464160" y="3887280"/>
                    <a:ext cx="312480" cy="85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6405840" y="3887280"/>
                    <a:ext cx="429480" cy="850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6835680" y="3887280"/>
                  <a:ext cx="429120" cy="850680"/>
                  <a:chOff x="6835680" y="3887280"/>
                  <a:chExt cx="429120" cy="85068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>
                    <a:off x="6893640" y="3887280"/>
                    <a:ext cx="312840" cy="85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6835680" y="3887280"/>
                    <a:ext cx="429120" cy="850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7265520" y="3887280"/>
                  <a:ext cx="429480" cy="850680"/>
                  <a:chOff x="7265520" y="3887280"/>
                  <a:chExt cx="429480" cy="85068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>
                    <a:off x="7323840" y="3887280"/>
                    <a:ext cx="312480" cy="85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7265520" y="3887280"/>
                    <a:ext cx="429480" cy="850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7695360" y="3887280"/>
                  <a:ext cx="429120" cy="850680"/>
                  <a:chOff x="7695360" y="3887280"/>
                  <a:chExt cx="429120" cy="85068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>
                    <a:off x="7753320" y="3887280"/>
                    <a:ext cx="312840" cy="85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7695360" y="3887280"/>
                    <a:ext cx="429120" cy="850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8124840" y="3887280"/>
                  <a:ext cx="429120" cy="850680"/>
                  <a:chOff x="8124840" y="3887280"/>
                  <a:chExt cx="429120" cy="85068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>
                    <a:off x="8183160" y="3887280"/>
                    <a:ext cx="312480" cy="85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8124840" y="3887280"/>
                    <a:ext cx="429120" cy="850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523800" y="4738320"/>
                  <a:ext cx="577080" cy="702000"/>
                  <a:chOff x="523800" y="4738320"/>
                  <a:chExt cx="577080" cy="70200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>
                    <a:off x="581760" y="4738320"/>
                    <a:ext cx="46080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P0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523800" y="4738320"/>
                    <a:ext cx="57708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1101240" y="4738320"/>
                  <a:ext cx="4444920" cy="702000"/>
                  <a:chOff x="1101240" y="4738320"/>
                  <a:chExt cx="4444920" cy="70200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>
                    <a:off x="1159560" y="4738320"/>
                    <a:ext cx="432756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Têm materiais relacionados com o serviço (folhetos, manuais, etc) visualmente atraentes.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1101240" y="4738320"/>
                    <a:ext cx="44449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5546880" y="4738320"/>
                  <a:ext cx="429120" cy="702000"/>
                  <a:chOff x="5546880" y="4738320"/>
                  <a:chExt cx="429120" cy="70200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5604840" y="4738320"/>
                    <a:ext cx="31284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5546880" y="4738320"/>
                    <a:ext cx="4291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5976360" y="4738320"/>
                  <a:ext cx="429120" cy="702000"/>
                  <a:chOff x="5976360" y="4738320"/>
                  <a:chExt cx="429120" cy="70200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>
                    <a:off x="6034320" y="4738320"/>
                    <a:ext cx="31284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5976360" y="4738320"/>
                    <a:ext cx="4291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6405840" y="4738320"/>
                  <a:ext cx="429480" cy="702000"/>
                  <a:chOff x="6405840" y="4738320"/>
                  <a:chExt cx="429480" cy="70200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6464160" y="4738320"/>
                    <a:ext cx="31248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6405840" y="4738320"/>
                    <a:ext cx="42948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6835680" y="4738320"/>
                  <a:ext cx="429120" cy="702000"/>
                  <a:chOff x="6835680" y="4738320"/>
                  <a:chExt cx="429120" cy="70200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6893640" y="4738320"/>
                    <a:ext cx="31284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6835680" y="4738320"/>
                    <a:ext cx="4291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7265520" y="4738320"/>
                  <a:ext cx="429480" cy="702000"/>
                  <a:chOff x="7265520" y="4738320"/>
                  <a:chExt cx="429480" cy="70200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>
                    <a:off x="7323840" y="4738320"/>
                    <a:ext cx="31248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7265520" y="4738320"/>
                    <a:ext cx="42948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7695360" y="4738320"/>
                  <a:ext cx="429120" cy="702000"/>
                  <a:chOff x="7695360" y="4738320"/>
                  <a:chExt cx="429120" cy="70200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7753320" y="4738320"/>
                    <a:ext cx="31284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7695360" y="4738320"/>
                    <a:ext cx="4291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8124840" y="4738320"/>
                  <a:ext cx="429120" cy="702000"/>
                  <a:chOff x="8124840" y="4738320"/>
                  <a:chExt cx="429120" cy="70200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8183160" y="4738320"/>
                    <a:ext cx="312480" cy="7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8124840" y="4738320"/>
                    <a:ext cx="429120" cy="702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8" name=""/>
              <p:cNvSpPr/>
              <p:nvPr/>
            </p:nvSpPr>
            <p:spPr>
              <a:xfrm>
                <a:off x="517680" y="1442880"/>
                <a:ext cx="8043480" cy="400212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ário - SERVQU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"/>
          <p:cNvSpPr/>
          <p:nvPr/>
        </p:nvSpPr>
        <p:spPr>
          <a:xfrm>
            <a:off x="1371600" y="544824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rupamento: 1,2,3,4 - Elementos Tangívei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EFD23-1EC6-4A0E-BE26-F52FEFB950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781280" y="1628640"/>
            <a:ext cx="458604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ário - LP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982800" y="1600200"/>
            <a:ext cx="7323120" cy="36720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1143000" y="5334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rupamento: 1,6,11,16,21,26; 2,7,12,17,22,27;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18B05-BF73-4923-BC6A-3C536ADB6B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sultados: Hiato 5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120" y="3429000"/>
            <a:ext cx="80010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 análise por meio do teste qui-quadrado, apresentou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&gt;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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ível de significância = 0,05). Assim, não podemos rejeitar H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, isto é, não há evidências suficientes, a um nível de confiança de 95%, de que exista um hiato 5, uma diferença significativa entre as percepções e expectativas d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173160" y="1523880"/>
            <a:ext cx="8742240" cy="17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20069-06AC-43F0-9DD4-F8F1C8631F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sultados: Hiato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120" y="3429000"/>
            <a:ext cx="807732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 análise por meio do teste qui-quadrado,  apresentou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&gt;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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ível de significância = 0,05). Assim, não há evidências suficientes, a um nível de confiança de 95%, de que exista um hiato 1, uma diferença significativa entre as expectativas dos clientes e as percepções das empresas de call center quanto a essas expectativ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374760" y="1447920"/>
          <a:ext cx="8464320" cy="182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1447920"/>
                    <a:ext cx="84643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CCB52-0331-4018-96A5-A80533BE55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sultados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Importância das Dimensõ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" y="3429000"/>
            <a:ext cx="822960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 análise por meio  do  teste  qui-quadrado,  apresentou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&gt;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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ível de significância = 0,05). Assim, não há evidências suficientes, a um nível de confiança de 95%, de que existam diferenças entre os pontos de vista de clientes e prestadores do serviço quanto à importância relativa das dimensões da qualidade dos serviç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380880" y="1486080"/>
          <a:ext cx="8442360" cy="189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86080"/>
                    <a:ext cx="8442360" cy="18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C4250-529A-402E-B65F-62292DF41F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sultados: Lideranç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265400" y="1417680"/>
            <a:ext cx="661176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C386B-FF62-45CF-A24D-977C80F6F7C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sultados: Lideranç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1608120" y="1447920"/>
            <a:ext cx="5897520" cy="519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D700D-08D2-4768-942C-89215DF241C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sultados: Lideranç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89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90000"/>
          </a:bodyPr>
          <a:p>
            <a:pPr marL="308520" indent="-308520" algn="just">
              <a:lnSpc>
                <a:spcPct val="120000"/>
              </a:lnSpc>
              <a:spcBef>
                <a:spcPts val="15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xy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(percepção das expectativas)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0,8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just">
              <a:lnSpc>
                <a:spcPct val="120000"/>
              </a:lnSpc>
              <a:spcBef>
                <a:spcPts val="113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onsultando-se a Tabela de Significância de Correlação (ver Anexo 4), com grau de liberdade 5 (6 pares de respostas a essa pergunta), essa correlação é significativa ao nível de 0,05, pois r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ahoma"/>
              </a:rPr>
              <a:t>CORREL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&gt;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0,75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20000"/>
              </a:lnSpc>
              <a:spcBef>
                <a:spcPts val="15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xy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(atenção em $$$)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0,4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20000"/>
              </a:lnSpc>
              <a:spcBef>
                <a:spcPts val="113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Essa correlação não é significativa ao nível de 0,05, pois r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ahoma"/>
              </a:rPr>
              <a:t>CORREL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&lt;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0,811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(5 respostas, grau de liberdade = 4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20000"/>
              </a:lnSpc>
              <a:spcBef>
                <a:spcPts val="15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xy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(atenção em tempo)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0,7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20000"/>
              </a:lnSpc>
              <a:spcBef>
                <a:spcPts val="113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Essa correlação é significativa ao nível de 0,05, pois r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ahoma"/>
              </a:rPr>
              <a:t>CORREL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&gt;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0,707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(7 respostas, grau de liberdade = 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1F5F6-BE98-47B6-B5D4-AC166314C01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228600" y="49536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sposta ao problema: Hipóte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95600" y="1576440"/>
            <a:ext cx="44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179800" y="260280"/>
            <a:ext cx="5981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831080" cy="432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3FED9-59AF-44B7-9614-3B7E39C95EC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67000"/>
            <a:ext cx="830592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te trabalho tem como objetivo fornecer subsídios a organizações prestadoras de serviços de call center para aperfeiçoar seus programas de treinamento em vend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, conseqüentemente, contribuir para o sucesso do negócio via aumento da qualidade percebida por seus cli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FE3E3-0729-4404-A40C-98D499BA2C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228600" y="49536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sposta ao problema: Hipóte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95600" y="1576440"/>
            <a:ext cx="44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179800" y="260280"/>
            <a:ext cx="5981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840360" cy="432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A1F3B-C4AB-4DE2-84F5-F9ACB5DE3EB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228600" y="49536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sposta ao problema: Hipóte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695600" y="1576440"/>
            <a:ext cx="44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179800" y="260280"/>
            <a:ext cx="5981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8001000" cy="3584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5FF31-72FD-4F20-8350-7575CC04266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2438280" y="5562720"/>
            <a:ext cx="670572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8600" y="49536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sposta ao problema: Hipóte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95600" y="1576440"/>
            <a:ext cx="44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179800" y="260280"/>
            <a:ext cx="5981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3124080" y="814320"/>
            <a:ext cx="4848480" cy="604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34891-9C17-4F48-BFB8-FAED2C1AF85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sposta ao problema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s serviços de treinamento em vendas disponibilizados pelas organizações prestadoras de serviços de call center estão satisfazendo as expectativas dos client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elos resultados obtidos, não é possível afirmar que os serviços pesquisados não estejam satisfazendo as expectativas dos cli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sse pesquisador sugere a ampliação da pesquisa, com base em resultados diferentes obtidos em investigações semelhantes e em sua experiência nesse merc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FA40F-1F8E-4358-8B12-FB73DB40A1B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comendações para Pesquisas Futur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5000"/>
              </a:lnSpc>
              <a:spcBef>
                <a:spcPts val="2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mpliar amostra, pois foi pequena e retratou os fornecedores de primeira linha do país, “um quadro otimista da situação do treinamento”, conforme Rabelo et al. (1995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lnSpc>
                <a:spcPct val="95000"/>
              </a:lnSpc>
              <a:spcBef>
                <a:spcPts val="2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nalisar as mesmas questões entre a organização prestadora do serviço de treinamento em vendas, interna - RH - ou externa à organização - empresa terceirizada -, e a área de operações da organização de call center, o primeiro cliente da cadeia. De forma semelhante, entre a organização de telecomunicações e seus clientes fina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lnSpc>
                <a:spcPct val="95000"/>
              </a:lnSpc>
              <a:spcBef>
                <a:spcPts val="2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xplorar as percepções e expectativas de clientes de outros setores importantes para essas organizações, como o financeiro, incluindo seguros, de forma conjunta ou em separado, governo, saú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5000"/>
              </a:lnSpc>
              <a:spcBef>
                <a:spcPts val="2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Outro tipo de treinamento fundamental para as atividades das organizações estudadas são os treinamentos de técnicas de atendimento, que também poderiam ser pesquis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DFF3D-26FE-4BF1-94A3-D31BEC2394A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comendações para Pesquisas Futur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39032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esquisar os outros hiatos do modelo de Parasuraman et al. (1988), para permitir uma visão geral do processo de prestação do serviço. São eles: as discrepâncias entre o que a empresa entende como expectativa do cliente e a especificação do serviço (Hiato 2); as discrepâncias entre as especificações do serviço e o serviço realizado (Hiato 3); e as discrepâncias entre a comunicação aos clientes relativa ao serviço e o serviço realizado (Hiato 4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m termos da liderança, estudar o ponto de vista do pessoal de linha de frente, os operadores ou agentes, e seu grau de satisfação com respeito às praticas de liderança e de contribuição para a prestação de um serviço de excelente qualidade. Também os treinamentos utilizados para formação e desenvolvimento de líde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ntro do grupo de pesquisa FHTC, estudar fatores críticos de sucesso dessas organizaçõ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s formas como essas organizações avaliam as necessidades e os resultados de treinam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B7B83-CEE5-4AD9-B7FC-FDB4A7DCD34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gradecim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31400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5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brigado, Mestre Quintel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125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 também ao Método Orientel e aos pesquisadores do grupo FH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5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brigado, Prof. Fernando Ferra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5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brigado, Prof. Paulo Cesar Mot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5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brigado, Marcelo Alves (pareceris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5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brigado, Paula, Ian, Carlos Costa, Margaret, Dennis, Suzan e família Re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5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brigado, Marta, Odair, Stella, colegas de mestrado e amig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5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brigado aos que colaboraram com essa pesquisa e a todos os pres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5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brigado aos que me ajudaram a chegar aonde chegue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3E96C-539E-450E-A147-7717A140ADE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Justificativ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93800" y="1392120"/>
            <a:ext cx="5721480" cy="523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ACA28-FAC2-4A8C-A3A5-E8CB51FB0C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ipóte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24000" y="1397160"/>
          <a:ext cx="6472080" cy="459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0" y="1397160"/>
                    <a:ext cx="6472080" cy="45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B9D9C-7C6F-460A-93EC-0F9A8A3ABC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ipóte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300320" y="1374840"/>
          <a:ext cx="6624360" cy="470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0320" y="1374840"/>
                    <a:ext cx="662436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2B57B-8D60-4F5F-91C3-B6BBAE9E47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ipóte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3120" y="2028960"/>
          <a:ext cx="7459560" cy="280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2028960"/>
                    <a:ext cx="7459560" cy="28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F2CDC-39FE-4E0A-B254-8AABCEE316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ipóte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376280" y="1447920"/>
          <a:ext cx="647244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6280" y="1447920"/>
                    <a:ext cx="647244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666F6-7696-41A3-83DD-DB52EF2632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6488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cial Teór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320" y="1294920"/>
            <a:ext cx="9067680" cy="3812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Modelo de avaliação da qualidade percebida de Parasuraman et al. (199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1663560"/>
            <a:ext cx="4038480" cy="51530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03600" y="1906560"/>
            <a:ext cx="10429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unicaçã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ca a ouv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75200" y="1906560"/>
            <a:ext cx="104148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cessidades pesso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67320" y="1906560"/>
            <a:ext cx="95256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periênci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75200" y="2844720"/>
            <a:ext cx="104148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iço Esper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75200" y="3470400"/>
            <a:ext cx="104148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iço Perce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99080" y="4200480"/>
            <a:ext cx="887400" cy="49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unicação externa aos clie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83040" y="6207120"/>
            <a:ext cx="122544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8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cepções dos gerentes sobre as expectativas dos clie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75200" y="4278240"/>
            <a:ext cx="104148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stação do Serviç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75200" y="5191200"/>
            <a:ext cx="104148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specificações da qualidade do serviç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95760" y="2271600"/>
            <a:ext cx="0" cy="573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87880" y="2271600"/>
            <a:ext cx="0" cy="67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271600"/>
            <a:ext cx="0" cy="67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2949480"/>
            <a:ext cx="885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127480" y="2949480"/>
            <a:ext cx="860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094440" y="3287520"/>
            <a:ext cx="0" cy="9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581000" y="3287880"/>
            <a:ext cx="151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95760" y="310644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128920" y="3575160"/>
            <a:ext cx="965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595760" y="3730320"/>
            <a:ext cx="0" cy="5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595760" y="4643280"/>
            <a:ext cx="0" cy="5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595760" y="5659200"/>
            <a:ext cx="0" cy="5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29280" y="5398920"/>
            <a:ext cx="965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094440" y="4694040"/>
            <a:ext cx="0" cy="704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77960" y="4011480"/>
            <a:ext cx="3908520" cy="6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295880" y="5659200"/>
            <a:ext cx="0" cy="5475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95880" y="4643280"/>
            <a:ext cx="0" cy="547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29280" y="4433760"/>
            <a:ext cx="4698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21080" y="3106800"/>
            <a:ext cx="0" cy="363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63840" y="1614600"/>
            <a:ext cx="14479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95760" y="3124080"/>
            <a:ext cx="522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Hiato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95760" y="5756400"/>
            <a:ext cx="522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Hiato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70200" y="4740120"/>
            <a:ext cx="5209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Hiato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78520" y="4010040"/>
            <a:ext cx="520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Hiato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40120" y="5208480"/>
            <a:ext cx="522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Hiat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512880" y="6486480"/>
            <a:ext cx="4698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513240" y="3072960"/>
            <a:ext cx="0" cy="34131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13240" y="3073320"/>
            <a:ext cx="574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36920" y="1646280"/>
            <a:ext cx="401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1646280"/>
            <a:ext cx="0" cy="519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536920" y="6845400"/>
            <a:ext cx="401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536920" y="1646280"/>
            <a:ext cx="0" cy="519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14600" y="3962520"/>
            <a:ext cx="15238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FORNECE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previousslide"/>
          </p:cNvPr>
          <p:cNvSpPr/>
          <p:nvPr/>
        </p:nvSpPr>
        <p:spPr>
          <a:xfrm rot="16200000">
            <a:off x="8496360" y="514332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9294"/>
                </a:moveTo>
                <a:lnTo>
                  <a:pt x="7301" y="9294"/>
                </a:lnTo>
                <a:lnTo>
                  <a:pt x="7301" y="14629"/>
                </a:lnTo>
                <a:cubicBezTo>
                  <a:pt x="7301" y="15552"/>
                  <a:pt x="8102" y="16283"/>
                  <a:pt x="9138" y="16283"/>
                </a:cubicBezTo>
                <a:lnTo>
                  <a:pt x="10800" y="16283"/>
                </a:lnTo>
                <a:cubicBezTo>
                  <a:pt x="11836" y="16283"/>
                  <a:pt x="12636" y="15552"/>
                  <a:pt x="12636" y="14629"/>
                </a:cubicBezTo>
                <a:lnTo>
                  <a:pt x="12636" y="9294"/>
                </a:lnTo>
                <a:lnTo>
                  <a:pt x="10800" y="9294"/>
                </a:lnTo>
                <a:lnTo>
                  <a:pt x="14308" y="5786"/>
                </a:lnTo>
                <a:lnTo>
                  <a:pt x="17981" y="9294"/>
                </a:lnTo>
                <a:lnTo>
                  <a:pt x="16144" y="9294"/>
                </a:lnTo>
                <a:lnTo>
                  <a:pt x="16144" y="14629"/>
                </a:lnTo>
                <a:cubicBezTo>
                  <a:pt x="16144" y="17397"/>
                  <a:pt x="13568" y="19956"/>
                  <a:pt x="10800" y="19956"/>
                </a:cubicBezTo>
                <a:lnTo>
                  <a:pt x="9138" y="19956"/>
                </a:lnTo>
                <a:cubicBezTo>
                  <a:pt x="6370" y="19956"/>
                  <a:pt x="3794" y="17397"/>
                  <a:pt x="3794" y="14629"/>
                </a:cubicBezTo>
                <a:close/>
              </a:path>
            </a:pathLst>
          </a:cu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C5F2F-BAA0-459D-960D-C64900E6FB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04:48:36Z</dcterms:created>
  <dc:creator>Jeffrey H. Costa (Acesso Direto)</dc:creator>
  <dc:description/>
  <dc:language>en-US</dc:language>
  <cp:lastModifiedBy>Jeffrey H. Costa</cp:lastModifiedBy>
  <dcterms:modified xsi:type="dcterms:W3CDTF">2005-05-07T19:13:05Z</dcterms:modified>
  <cp:revision>103</cp:revision>
  <dc:subject>Avaliação de Qualidade Percebida de Treinamentos em Vendas</dc:subject>
  <dc:title>Defesa de Dissertação</dc:title>
</cp:coreProperties>
</file>